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30A-1F4E-4BA7-AA76-80119911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CA4-D47E-4FDB-8072-DF4DDB02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4CD-3DB0-416B-92BE-C2FDD943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1A3-3C2E-4348-AEA6-29CDD0B12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208-1752-4569-AC84-F4DA082A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E4E-50DD-4CB9-AC98-942CC52A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2C7C-1079-461A-B340-39BCC8C6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A1CD-6727-4D47-B563-5C64F3B8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2387-E0EC-4812-99CC-18186483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F667-796A-4AF1-9D14-CF95A767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179-1853-4B4F-BDAD-EAA9D59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4C4-515F-4EEB-A4BC-64B5CC2F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14B6-2867-466E-80AD-9AD4AD4898A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7375e"/>
                </a:solidFill>
                <a:latin typeface="Copperplate Gothic Bold"/>
              </a:rPr>
              <a:t>Agua y Cuarto Mu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olor"/>
          <p:cNvPicPr/>
          <p:nvPr/>
        </p:nvPicPr>
        <p:blipFill>
          <a:blip r:embed="rId1"/>
          <a:stretch/>
        </p:blipFill>
        <p:spPr>
          <a:xfrm>
            <a:off x="1979640" y="0"/>
            <a:ext cx="5554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1619280" y="6922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75e"/>
                </a:solidFill>
                <a:latin typeface="Copperplate Gothic Bold"/>
              </a:rPr>
              <a:t>Agua y cuarto mundo en el contexto Influ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47640" y="1700280"/>
            <a:ext cx="69519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pperplate Gothic Bold"/>
              </a:rPr>
              <a:t>Demanda nº 1 del legado F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onocer expresamente y garantizar el derecho humano al agua potable y saneamiento para todos los seres humanos por ser un derecho humano fundamental y, por tanto, un derecho político, económico y social inalie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 Proceso"/>
          <p:cNvSpPr/>
          <p:nvPr/>
        </p:nvSpPr>
        <p:spPr>
          <a:xfrm>
            <a:off x="8893080" y="0"/>
            <a:ext cx="250920" cy="335772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olor"/>
          <p:cNvPicPr/>
          <p:nvPr/>
        </p:nvPicPr>
        <p:blipFill>
          <a:blip r:embed="rId1"/>
          <a:stretch/>
        </p:blipFill>
        <p:spPr>
          <a:xfrm>
            <a:off x="0" y="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1619280" y="4437000"/>
            <a:ext cx="69516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pperplate Gothic Bold"/>
              </a:rPr>
              <a:t>Demanda nº 2 del legado F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pensar las dinámicas sociales del Norte, donde todavía persisten bolsas de pobreza, y donde el acceso al agua potable y saneamiento no es una realidad para tod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8 CuadroTexto"/>
          <p:cNvGrpSpPr/>
          <p:nvPr/>
        </p:nvGrpSpPr>
        <p:grpSpPr>
          <a:xfrm>
            <a:off x="3490560" y="1500120"/>
            <a:ext cx="2590200" cy="3121200"/>
            <a:chOff x="3490560" y="1500120"/>
            <a:chExt cx="2590200" cy="3121200"/>
          </a:xfrm>
        </p:grpSpPr>
        <p:pic>
          <p:nvPicPr>
            <p:cNvPr id="83" name="8 CuadroTexto" descr=""/>
            <p:cNvPicPr/>
            <p:nvPr/>
          </p:nvPicPr>
          <p:blipFill>
            <a:blip r:embed="rId2"/>
            <a:stretch/>
          </p:blipFill>
          <p:spPr>
            <a:xfrm>
              <a:off x="3490560" y="1500120"/>
              <a:ext cx="259020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18943200">
              <a:off x="3193200" y="2851200"/>
              <a:ext cx="31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opperplate Gothic Bold"/>
                </a:rPr>
                <a:t>Reconocida en Julio 20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9 CuadroTexto"/>
          <p:cNvGrpSpPr/>
          <p:nvPr/>
        </p:nvGrpSpPr>
        <p:grpSpPr>
          <a:xfrm>
            <a:off x="3426480" y="3809880"/>
            <a:ext cx="2773440" cy="3140280"/>
            <a:chOff x="3426480" y="3809880"/>
            <a:chExt cx="2773440" cy="3140280"/>
          </a:xfrm>
        </p:grpSpPr>
        <p:pic>
          <p:nvPicPr>
            <p:cNvPr id="86" name="9 CuadroTexto" descr=""/>
            <p:cNvPicPr/>
            <p:nvPr/>
          </p:nvPicPr>
          <p:blipFill>
            <a:blip r:embed="rId3"/>
            <a:stretch/>
          </p:blipFill>
          <p:spPr>
            <a:xfrm>
              <a:off x="3426480" y="3809880"/>
              <a:ext cx="2610000" cy="31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 rot="18943200">
              <a:off x="3229560" y="513324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Copperplate Gothic Bold"/>
                </a:rPr>
                <a:t>No perdamos la esperanz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17375e"/>
                </a:solidFill>
                <a:latin typeface="Copperplate Gothic Bold"/>
              </a:rPr>
              <a:t>Agua y Cuarto Mu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olor"/>
          <p:cNvPicPr/>
          <p:nvPr/>
        </p:nvPicPr>
        <p:blipFill>
          <a:blip r:embed="rId1"/>
          <a:stretch/>
        </p:blipFill>
        <p:spPr>
          <a:xfrm>
            <a:off x="1979640" y="0"/>
            <a:ext cx="5554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interiores"/>
          <p:cNvPicPr/>
          <p:nvPr/>
        </p:nvPicPr>
        <p:blipFill>
          <a:blip r:embed="rId1"/>
          <a:stretch/>
        </p:blipFill>
        <p:spPr>
          <a:xfrm>
            <a:off x="0" y="-370044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2195640" y="69228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75e"/>
                </a:solidFill>
                <a:latin typeface="Copperplate Gothic Bold"/>
              </a:rPr>
              <a:t>Cuál era el mensaje del F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556000" y="1197000"/>
            <a:ext cx="6119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erlin Sans FB"/>
              </a:rPr>
              <a:t>Derecho humano al agua potable y al sane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erlin Sans FB"/>
              </a:rPr>
              <a:t>Degradación de ríos, lagos, humedales, acuíferos y mares. Servicios ambient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erlin Sans FB"/>
              </a:rPr>
              <a:t>Gestión de riesgos de desast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erlin Sans FB"/>
              </a:rPr>
              <a:t>Grandes presas e infraestructu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erlin Sans FB"/>
              </a:rPr>
              <a:t>Agua y Edu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erlin Sans FB"/>
              </a:rPr>
              <a:t>Usos y abusos del a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erlin Sans FB"/>
              </a:rPr>
              <a:t>Conflictos por el agu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erlin Sans FB"/>
              </a:rPr>
              <a:t>Agua y colectivos vulnerables: mujer, infancia, y población indíge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erlin Sans FB"/>
              </a:rPr>
              <a:t>Gestión pública del a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erlin Sans FB"/>
              </a:rPr>
              <a:t>Cambio climát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erlin Sans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erlin Sans FB"/>
              </a:rPr>
              <a:t>Agua e interculturalida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olor"/>
          <p:cNvPicPr/>
          <p:nvPr/>
        </p:nvPicPr>
        <p:blipFill>
          <a:blip r:embed="rId2"/>
          <a:stretch/>
        </p:blipFill>
        <p:spPr>
          <a:xfrm>
            <a:off x="0" y="-24300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1619280" y="6922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75e"/>
                </a:solidFill>
                <a:latin typeface="Copperplate Gothic Bold"/>
              </a:rPr>
              <a:t>Descubrimiento del contexto urbano…El cuarto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979640" y="1557360"/>
            <a:ext cx="6951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0,10% de los hogares de Zaragoza ciudad carecían de agua corriente en el año 2006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Esta cifra supone la afectación a al menos 600 famil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proyección poco exhaustiva pero ilustrativa  a nivel nacional nos llevaría a que al men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2.000 personas carecen de agua corriente en nuestro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último informe Foessa nos habla de que en el último periodo (2000- 2008)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niveles de pobreza sever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nuestro país no sólo no han descendido sino que se han mantenido e incluso, en determinados ámbitos incrementado, situándose en un umbral general d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% de la población español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5 Proceso"/>
          <p:cNvSpPr/>
          <p:nvPr/>
        </p:nvSpPr>
        <p:spPr>
          <a:xfrm>
            <a:off x="8893080" y="0"/>
            <a:ext cx="250920" cy="335772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olor"/>
          <p:cNvPicPr/>
          <p:nvPr/>
        </p:nvPicPr>
        <p:blipFill>
          <a:blip r:embed="rId1"/>
          <a:stretch/>
        </p:blipFill>
        <p:spPr>
          <a:xfrm>
            <a:off x="0" y="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abola 3"/>
          <p:cNvPicPr/>
          <p:nvPr/>
        </p:nvPicPr>
        <p:blipFill>
          <a:blip r:embed="rId2"/>
          <a:stretch/>
        </p:blipFill>
        <p:spPr>
          <a:xfrm>
            <a:off x="179280" y="5175360"/>
            <a:ext cx="2089080" cy="15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1619280" y="692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75e"/>
                </a:solidFill>
                <a:latin typeface="Copperplate Gothic Bold"/>
              </a:rPr>
              <a:t>Agua y cuarto mundo en el contexto fa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979640" y="1557360"/>
            <a:ext cx="6951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Una incidencia particular de este uso y abuso del agua lo constituye su impacto social en el cuarto mundo. La falta de acceso a agua corriente, la ausencia de agua caliente, la existencia de domicilios sin aseos, las grietas, humedades, … presentes en un porcentaje inadmisible en nuestras ciudades condiciona el ser social de muchas personas que viven en situación de exclusión social.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El agua se configura así en nuestras ciudades como un factor de inclusión/exclusión social que como en tantas ocasiones, al recaer sus efectos sobre los mismos, pasan desapercibidos para la gran mayoría de los ciudadanos/as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. Estos efectos se enfatizan en el entorno rural donde la escasez de agua, o la inexistencia en determinados pueblos y en determinadas temporadas, condiciona sobremanera la calidad de vida en el mundo rura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5 Proceso"/>
          <p:cNvSpPr/>
          <p:nvPr/>
        </p:nvSpPr>
        <p:spPr>
          <a:xfrm>
            <a:off x="8893080" y="0"/>
            <a:ext cx="250920" cy="335772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olor"/>
          <p:cNvPicPr/>
          <p:nvPr/>
        </p:nvPicPr>
        <p:blipFill>
          <a:blip r:embed="rId1"/>
          <a:stretch/>
        </p:blipFill>
        <p:spPr>
          <a:xfrm>
            <a:off x="0" y="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Infravivienda 5A"/>
          <p:cNvPicPr/>
          <p:nvPr/>
        </p:nvPicPr>
        <p:blipFill>
          <a:blip r:embed="rId2"/>
          <a:stretch/>
        </p:blipFill>
        <p:spPr>
          <a:xfrm>
            <a:off x="108000" y="5470560"/>
            <a:ext cx="2016000" cy="13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619280" y="6922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75e"/>
                </a:solidFill>
                <a:latin typeface="Copperplate Gothic Bold"/>
              </a:rPr>
              <a:t>Agua y cuarto mundo en el contexto Influ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47640" y="2133720"/>
            <a:ext cx="69519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pperplate Gothic Bold"/>
              </a:rPr>
              <a:t>Demanda nº 2 del legado Fa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pensar las dinámicas sociales del Norte, donde todavía persisten bolsas de pobreza, y donde el acceso al agua potable y saneamiento no es una realidad para tod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Proceso"/>
          <p:cNvSpPr/>
          <p:nvPr/>
        </p:nvSpPr>
        <p:spPr>
          <a:xfrm>
            <a:off x="8893080" y="0"/>
            <a:ext cx="250920" cy="335772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olor"/>
          <p:cNvPicPr/>
          <p:nvPr/>
        </p:nvPicPr>
        <p:blipFill>
          <a:blip r:embed="rId1"/>
          <a:stretch/>
        </p:blipFill>
        <p:spPr>
          <a:xfrm>
            <a:off x="0" y="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1619280" y="692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75e"/>
                </a:solidFill>
                <a:latin typeface="Copperplate Gothic Bold"/>
              </a:rPr>
              <a:t>Vivir sin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ext Box 4" descr=""/>
          <p:cNvPicPr/>
          <p:nvPr/>
        </p:nvPicPr>
        <p:blipFill>
          <a:blip r:embed="rId1"/>
          <a:stretch/>
        </p:blipFill>
        <p:spPr>
          <a:xfrm>
            <a:off x="-66600" y="1262160"/>
            <a:ext cx="9217080" cy="5924520"/>
          </a:xfrm>
          <a:prstGeom prst="rect">
            <a:avLst/>
          </a:prstGeom>
          <a:ln w="0">
            <a:noFill/>
          </a:ln>
        </p:spPr>
      </p:pic>
      <p:sp>
        <p:nvSpPr>
          <p:cNvPr id="63" name="5 Proceso"/>
          <p:cNvSpPr/>
          <p:nvPr/>
        </p:nvSpPr>
        <p:spPr>
          <a:xfrm>
            <a:off x="8893080" y="0"/>
            <a:ext cx="250920" cy="335772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olor"/>
          <p:cNvPicPr/>
          <p:nvPr/>
        </p:nvPicPr>
        <p:blipFill>
          <a:blip r:embed="rId2"/>
          <a:stretch/>
        </p:blipFill>
        <p:spPr>
          <a:xfrm>
            <a:off x="0" y="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1619280" y="692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75e"/>
                </a:solidFill>
                <a:latin typeface="Copperplate Gothic Bold"/>
              </a:rPr>
              <a:t>Vivir sin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68360" y="1484280"/>
            <a:ext cx="84628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rque Vivir sin agua, también tiene que ver c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imagen soci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empleo, integración, socia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l trabaj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o labo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La 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incidencia especial en personas mayores (consecuencias, agravadas por lo territorial –pueblo o ciudad-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l modelo de ciuda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amos generando. Desarrollo sosten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nfraestructuras, electrodomésticos, wc, ducha, calentador, lavadora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Proceso"/>
          <p:cNvSpPr/>
          <p:nvPr/>
        </p:nvSpPr>
        <p:spPr>
          <a:xfrm>
            <a:off x="8893080" y="0"/>
            <a:ext cx="250920" cy="335772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olor"/>
          <p:cNvPicPr/>
          <p:nvPr/>
        </p:nvPicPr>
        <p:blipFill>
          <a:blip r:embed="rId1"/>
          <a:stretch/>
        </p:blipFill>
        <p:spPr>
          <a:xfrm>
            <a:off x="0" y="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619280" y="692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75e"/>
                </a:solidFill>
                <a:latin typeface="Copperplate Gothic Bold"/>
              </a:rPr>
              <a:t>Vivir sin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Text Box 4" descr=""/>
          <p:cNvPicPr/>
          <p:nvPr/>
        </p:nvPicPr>
        <p:blipFill>
          <a:blip r:embed="rId1"/>
          <a:stretch/>
        </p:blipFill>
        <p:spPr>
          <a:xfrm>
            <a:off x="-6480" y="1481040"/>
            <a:ext cx="9156960" cy="4840560"/>
          </a:xfrm>
          <a:prstGeom prst="rect">
            <a:avLst/>
          </a:prstGeom>
          <a:ln w="0">
            <a:noFill/>
          </a:ln>
        </p:spPr>
      </p:pic>
      <p:sp>
        <p:nvSpPr>
          <p:cNvPr id="71" name="5 Proceso"/>
          <p:cNvSpPr/>
          <p:nvPr/>
        </p:nvSpPr>
        <p:spPr>
          <a:xfrm>
            <a:off x="8893080" y="0"/>
            <a:ext cx="250920" cy="335772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olor"/>
          <p:cNvPicPr/>
          <p:nvPr/>
        </p:nvPicPr>
        <p:blipFill>
          <a:blip r:embed="rId2"/>
          <a:stretch/>
        </p:blipFill>
        <p:spPr>
          <a:xfrm>
            <a:off x="0" y="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1619280" y="69228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75e"/>
                </a:solidFill>
                <a:latin typeface="Copperplate Gothic Bold"/>
              </a:rPr>
              <a:t>Cuando la participación ciudadana nos descubre otros mund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ext Box 4" descr=""/>
          <p:cNvPicPr/>
          <p:nvPr/>
        </p:nvPicPr>
        <p:blipFill>
          <a:blip r:embed="rId1"/>
          <a:stretch/>
        </p:blipFill>
        <p:spPr>
          <a:xfrm>
            <a:off x="-6480" y="1481040"/>
            <a:ext cx="9247320" cy="3730680"/>
          </a:xfrm>
          <a:prstGeom prst="rect">
            <a:avLst/>
          </a:prstGeom>
          <a:ln w="0">
            <a:noFill/>
          </a:ln>
        </p:spPr>
      </p:pic>
      <p:sp>
        <p:nvSpPr>
          <p:cNvPr id="75" name="5 Proceso"/>
          <p:cNvSpPr/>
          <p:nvPr/>
        </p:nvSpPr>
        <p:spPr>
          <a:xfrm>
            <a:off x="8893080" y="0"/>
            <a:ext cx="250920" cy="335772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olor"/>
          <p:cNvPicPr/>
          <p:nvPr/>
        </p:nvPicPr>
        <p:blipFill>
          <a:blip r:embed="rId2"/>
          <a:stretch/>
        </p:blipFill>
        <p:spPr>
          <a:xfrm>
            <a:off x="0" y="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2:35:10Z</dcterms:created>
  <dc:creator>fperezvalle</dc:creator>
  <dc:description/>
  <dc:language>en-US</dc:language>
  <cp:lastModifiedBy>CARLOS </cp:lastModifiedBy>
  <dcterms:modified xsi:type="dcterms:W3CDTF">2010-11-12T20:46:06Z</dcterms:modified>
  <cp:revision>82</cp:revision>
  <dc:subject/>
  <dc:title>PASOS DADOS</dc:title>
</cp:coreProperties>
</file>