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10012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1001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7000" y="750600"/>
            <a:ext cx="5005440" cy="375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756320"/>
            <a:ext cx="5029200" cy="45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51192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951192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6C8B3-C813-4D88-B1CE-F92BE35DBDC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olio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951228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6D6BD-76A9-414F-8661-509DA453DBD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5440" cy="37544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756320"/>
            <a:ext cx="50292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951228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36AF5-1AEB-464D-AA21-9ED09B01664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5440" cy="37544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756320"/>
            <a:ext cx="50292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951228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66A5F-9DBB-4192-95A5-CD7A010EC57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5440" cy="37544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756320"/>
            <a:ext cx="50292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951228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8995A-41FA-4212-AA89-B526FC947B4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5440" cy="37544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756320"/>
            <a:ext cx="50292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951228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FC495-5EEA-4896-9868-BCC766816D4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5440" cy="37544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756320"/>
            <a:ext cx="50292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951228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2C850-9D0A-4448-811D-C54FE8DBA5A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5440" cy="37544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756320"/>
            <a:ext cx="50292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951228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E58BD-798A-4CF0-9870-5857507F58A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5440" cy="37544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756320"/>
            <a:ext cx="50292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951228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167B1-A056-4E6E-84A0-D9DAD13302B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5440" cy="3754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756320"/>
            <a:ext cx="50292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951228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C1CAD-77D5-4B2C-9B55-2DD632D0C39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5440" cy="37544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756320"/>
            <a:ext cx="50292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951228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A7BC6-372E-409C-8F5A-A6CADF4316B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5440" cy="3754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756320"/>
            <a:ext cx="50292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951228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20237-88A4-4526-AFCC-F76E610E85E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5440" cy="37544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756320"/>
            <a:ext cx="50292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951228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25EDD-87D0-4F01-919E-2356B9E2EE6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5440" cy="37544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756320"/>
            <a:ext cx="50292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951228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34EF2-4641-4E63-B031-084EBBC9A7C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5440" cy="37544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756320"/>
            <a:ext cx="50292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951228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A1425-4DA2-4EC5-BF2B-20F2EFA002A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5440" cy="37544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756320"/>
            <a:ext cx="50292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951228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F2A3B-6283-4BFA-994B-E28A1B0C93B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5440" cy="37544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756320"/>
            <a:ext cx="50292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4F9F-8386-43DA-BB2F-D4FF3EF89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DB24-ED76-42A9-87C9-B7A0863B6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600A-E44E-4E6E-AA40-553BE2E6B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00F5-7A9B-4F40-8D44-EB711D13C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3640-61E6-444E-9641-4FC911C74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D9F8-B5AD-4091-A6A4-1F0DFD0C7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3B42-8DE0-484F-B0A8-EDF11FDC1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B81C-D332-4D5A-A4B2-8DAC3117C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F468-0E17-46D7-8984-CAEACD434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41F6-EFC6-4DF8-8F4E-B269EF7D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976C-0EF3-4E75-91D4-59770AB21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67E0-EB3A-4140-AA84-C457C0C1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E705A-F789-4B19-9F21-D9AFE4B511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Folio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hyperlink" Target="mailto:ceainjerez@acoge.org" TargetMode="External"/><Relationship Id="rId4" Type="http://schemas.openxmlformats.org/officeDocument/2006/relationships/hyperlink" Target="mailto:ceainlaboral@acoge.org" TargetMode="External"/><Relationship Id="rId5" Type="http://schemas.openxmlformats.org/officeDocument/2006/relationships/hyperlink" Target="mailto:ceaincadiz@acoge.org" TargetMode="Externa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3" descr="13 banda grafismos"/>
          <p:cNvPicPr/>
          <p:nvPr/>
        </p:nvPicPr>
        <p:blipFill>
          <a:blip r:embed="rId1"/>
          <a:stretch/>
        </p:blipFill>
        <p:spPr>
          <a:xfrm>
            <a:off x="2484360" y="260280"/>
            <a:ext cx="4470480" cy="3975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9" descr="52"/>
          <p:cNvPicPr/>
          <p:nvPr/>
        </p:nvPicPr>
        <p:blipFill>
          <a:blip r:embed="rId2"/>
          <a:stretch/>
        </p:blipFill>
        <p:spPr>
          <a:xfrm>
            <a:off x="146160" y="5872320"/>
            <a:ext cx="8851680" cy="8744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0"/>
          <p:cNvSpPr/>
          <p:nvPr/>
        </p:nvSpPr>
        <p:spPr>
          <a:xfrm>
            <a:off x="396720" y="3500280"/>
            <a:ext cx="741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Rockwell Condensed"/>
              </a:rPr>
              <a:t>Construyendo oportunidades para el empleo</a:t>
            </a:r>
            <a:endParaRPr b="0" lang="en-US" sz="32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51" name="Text Box 31"/>
          <p:cNvSpPr/>
          <p:nvPr/>
        </p:nvSpPr>
        <p:spPr>
          <a:xfrm>
            <a:off x="3924360" y="2565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</p:txBody>
      </p:sp>
      <p:pic>
        <p:nvPicPr>
          <p:cNvPr id="52" name="Picture 34" descr="Captura1"/>
          <p:cNvPicPr/>
          <p:nvPr/>
        </p:nvPicPr>
        <p:blipFill>
          <a:blip r:embed="rId3"/>
          <a:stretch/>
        </p:blipFill>
        <p:spPr>
          <a:xfrm>
            <a:off x="468360" y="5041800"/>
            <a:ext cx="2016000" cy="6192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5"/>
          <p:cNvSpPr/>
          <p:nvPr/>
        </p:nvSpPr>
        <p:spPr>
          <a:xfrm>
            <a:off x="442800" y="4429080"/>
            <a:ext cx="535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olio Light"/>
              </a:rPr>
              <a:t>Talleres de sensibilización de mujeres inmigrantes 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olio Light"/>
              </a:rPr>
              <a:t>para combatir la discriminización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54" name="Text Box 36"/>
          <p:cNvSpPr/>
          <p:nvPr/>
        </p:nvSpPr>
        <p:spPr>
          <a:xfrm>
            <a:off x="397440" y="2776680"/>
            <a:ext cx="3058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Folio Light"/>
              </a:rPr>
              <a:t>Programa de actividades</a:t>
            </a:r>
            <a:endParaRPr b="0" lang="en-US" sz="1600" spc="-1" strike="noStrike">
              <a:solidFill>
                <a:srgbClr val="000000"/>
              </a:solidFill>
              <a:latin typeface="Folio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Folio Light"/>
              </a:rPr>
              <a:t>Cádiz, Viernes 30 de Octubre</a:t>
            </a:r>
            <a:endParaRPr b="0" lang="en-US" sz="1600" spc="-1" strike="noStrike">
              <a:solidFill>
                <a:srgbClr val="000000"/>
              </a:solidFill>
              <a:latin typeface="Folio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68" descr="fondillo"/>
          <p:cNvPicPr/>
          <p:nvPr/>
        </p:nvPicPr>
        <p:blipFill>
          <a:blip r:embed="rId1"/>
          <a:stretch/>
        </p:blipFill>
        <p:spPr>
          <a:xfrm>
            <a:off x="1403280" y="189000"/>
            <a:ext cx="6553440" cy="65530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3"/>
          <p:cNvSpPr/>
          <p:nvPr/>
        </p:nvSpPr>
        <p:spPr>
          <a:xfrm>
            <a:off x="2195640" y="2276640"/>
            <a:ext cx="44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olio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olio Light"/>
            </a:endParaRPr>
          </a:p>
        </p:txBody>
      </p:sp>
      <p:pic>
        <p:nvPicPr>
          <p:cNvPr id="92" name="Picture 65" descr="52"/>
          <p:cNvPicPr/>
          <p:nvPr/>
        </p:nvPicPr>
        <p:blipFill>
          <a:blip r:embed="rId2"/>
          <a:stretch/>
        </p:blipFill>
        <p:spPr>
          <a:xfrm>
            <a:off x="146160" y="5872320"/>
            <a:ext cx="8851680" cy="874440"/>
          </a:xfrm>
          <a:prstGeom prst="rect">
            <a:avLst/>
          </a:prstGeom>
          <a:ln w="0">
            <a:noFill/>
          </a:ln>
        </p:spPr>
      </p:pic>
      <p:sp>
        <p:nvSpPr>
          <p:cNvPr id="93" name="5 Rectángulo"/>
          <p:cNvSpPr/>
          <p:nvPr/>
        </p:nvSpPr>
        <p:spPr>
          <a:xfrm>
            <a:off x="428760" y="571680"/>
            <a:ext cx="8286480" cy="53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0280" indent="-5302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16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Calibri"/>
              </a:rPr>
              <a:t>OBJETIVOS</a:t>
            </a: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  <a:p>
            <a:pPr marL="530280" indent="-530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16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marL="530280" indent="-530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16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marL="530280" indent="-530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16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Capacitar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a los alumnos/as en conocimientos, habilidades, actitudes y competencias 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marL="530280" indent="-530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16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n mediación intercultural.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marL="530280" indent="-530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16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marL="530280" indent="-530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16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Realizar </a:t>
            </a: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prácticas profesionales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en diferentes entidades tanto públicas como privadas  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marL="530280" indent="-530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16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con servicios de atención al colectivo inmigrante y minorías étnicas. 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marL="530280" indent="-530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16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marL="530280" indent="-530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16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Sensibilizar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a los agentes sociales sobre la función que cumplen las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acciones 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marL="530280" indent="-530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16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mediadoras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marL="530280" indent="-530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16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marL="530280" indent="-530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16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Promover acciones de acompañamiento y seguimiento en el </a:t>
            </a: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proceso de inserción 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marL="530280" indent="-530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16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laboral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marL="530280" indent="-530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16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marL="530280" indent="-530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16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Lograr una inserción laboral en torno al 30%. 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marL="530280" indent="-530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16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68" descr="fondillo"/>
          <p:cNvPicPr/>
          <p:nvPr/>
        </p:nvPicPr>
        <p:blipFill>
          <a:blip r:embed="rId1"/>
          <a:stretch/>
        </p:blipFill>
        <p:spPr>
          <a:xfrm>
            <a:off x="1403280" y="189000"/>
            <a:ext cx="6553440" cy="65530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2195640" y="2276640"/>
            <a:ext cx="44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olio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olio Light"/>
            </a:endParaRPr>
          </a:p>
        </p:txBody>
      </p:sp>
      <p:pic>
        <p:nvPicPr>
          <p:cNvPr id="96" name="Picture 65" descr="52"/>
          <p:cNvPicPr/>
          <p:nvPr/>
        </p:nvPicPr>
        <p:blipFill>
          <a:blip r:embed="rId2"/>
          <a:stretch/>
        </p:blipFill>
        <p:spPr>
          <a:xfrm>
            <a:off x="146160" y="5872320"/>
            <a:ext cx="8851680" cy="874440"/>
          </a:xfrm>
          <a:prstGeom prst="rect">
            <a:avLst/>
          </a:prstGeom>
          <a:ln w="0">
            <a:noFill/>
          </a:ln>
        </p:spPr>
      </p:pic>
      <p:sp>
        <p:nvSpPr>
          <p:cNvPr id="97" name="4 Rectángulo"/>
          <p:cNvSpPr/>
          <p:nvPr/>
        </p:nvSpPr>
        <p:spPr>
          <a:xfrm>
            <a:off x="428760" y="428760"/>
            <a:ext cx="8143920" cy="49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Calibri"/>
              </a:rPr>
              <a:t>PERFIL DEL ALUMNADO</a:t>
            </a: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ersonas desempleadas mayores de 25 años El 70% seleccionado por CEAIN. El 30% por el SAE.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ormación y/o experiencia previa en el ámbito de la inmigración e interculturalidad.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Dominio del castellano.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Nivel educativo equivalente a la ESO, incluyendo a aquellas personas que no cuentan con la homologación de dichos estudios en España.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Interés y motivación por la interculturalidad.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Habilidades de comunicación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El </a:t>
            </a: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alumnado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está compuesto por </a:t>
            </a: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20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personas: </a:t>
            </a: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16 mujeres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y </a:t>
            </a: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hombres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Países de procedencia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Zimbabwe, Uruguay, Marruecos México, 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Hungría,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Salvador, Colombia, 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Camerún,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rancia, Argentina, Perú, Bolivia, España, Venezuela, 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Togo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Cuentan con un contrato en la modalidad de formación durante un año.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El Taller se inicia el 30 de Diciembre de 2008 y finaliza el 29 de Diciembre de 2009. 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68" descr="fondillo"/>
          <p:cNvPicPr/>
          <p:nvPr/>
        </p:nvPicPr>
        <p:blipFill>
          <a:blip r:embed="rId1"/>
          <a:stretch/>
        </p:blipFill>
        <p:spPr>
          <a:xfrm>
            <a:off x="1403280" y="189000"/>
            <a:ext cx="6553440" cy="65530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3"/>
          <p:cNvSpPr/>
          <p:nvPr/>
        </p:nvSpPr>
        <p:spPr>
          <a:xfrm>
            <a:off x="2195640" y="2276640"/>
            <a:ext cx="44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olio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olio Light"/>
            </a:endParaRPr>
          </a:p>
        </p:txBody>
      </p:sp>
      <p:pic>
        <p:nvPicPr>
          <p:cNvPr id="100" name="Picture 65" descr="52"/>
          <p:cNvPicPr/>
          <p:nvPr/>
        </p:nvPicPr>
        <p:blipFill>
          <a:blip r:embed="rId2"/>
          <a:stretch/>
        </p:blipFill>
        <p:spPr>
          <a:xfrm>
            <a:off x="146160" y="5872320"/>
            <a:ext cx="8851680" cy="874440"/>
          </a:xfrm>
          <a:prstGeom prst="rect">
            <a:avLst/>
          </a:prstGeom>
          <a:ln w="0">
            <a:noFill/>
          </a:ln>
        </p:spPr>
      </p:pic>
      <p:sp>
        <p:nvSpPr>
          <p:cNvPr id="101" name="4 Rectángulo"/>
          <p:cNvSpPr/>
          <p:nvPr/>
        </p:nvSpPr>
        <p:spPr>
          <a:xfrm>
            <a:off x="428760" y="642960"/>
            <a:ext cx="8072280" cy="48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Calibri"/>
              </a:rPr>
              <a:t>PROYECTO “OIKOS”</a:t>
            </a: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Recurso de alojamiento temporal para inmigrantes.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El proyecto “OIKOS” se ejecuta en la zona sur de Jerez de la Frontera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2060"/>
                </a:solidFill>
                <a:latin typeface="Calibri"/>
              </a:rPr>
              <a:t>OBJETIVO: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 Proporcionar un recurso de alojamiento temporal a inmigrantes que cumplan el perfil señalado, desarrollando paralelamente un plan personalizado de intervención, a fin de facilitar la inserción socio-laboral y el acceso a los bienes y servicios normalizados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2060"/>
                </a:solidFill>
                <a:latin typeface="Calibri"/>
              </a:rPr>
              <a:t>DESTINATARIOS: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Personas inmigrantes de origen extracomunitario en riesgo de exclusión social. 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Tendrán preferencia los siguientes perfiles: 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Mujeres con responsabilidades familiares no compartidas (familias   monoparentales)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Con escasa o nula red social de apoyo.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Desempleadas/os o empleadas/os en condiciones muy precarias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68" descr="fondillo"/>
          <p:cNvPicPr/>
          <p:nvPr/>
        </p:nvPicPr>
        <p:blipFill>
          <a:blip r:embed="rId1"/>
          <a:stretch/>
        </p:blipFill>
        <p:spPr>
          <a:xfrm>
            <a:off x="1285920" y="304920"/>
            <a:ext cx="6553080" cy="655308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3"/>
          <p:cNvSpPr/>
          <p:nvPr/>
        </p:nvSpPr>
        <p:spPr>
          <a:xfrm>
            <a:off x="2195640" y="2276640"/>
            <a:ext cx="44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olio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olio Light"/>
            </a:endParaRPr>
          </a:p>
        </p:txBody>
      </p:sp>
      <p:pic>
        <p:nvPicPr>
          <p:cNvPr id="104" name="Picture 65" descr="52"/>
          <p:cNvPicPr/>
          <p:nvPr/>
        </p:nvPicPr>
        <p:blipFill>
          <a:blip r:embed="rId2"/>
          <a:stretch/>
        </p:blipFill>
        <p:spPr>
          <a:xfrm>
            <a:off x="146160" y="5872320"/>
            <a:ext cx="8851680" cy="874440"/>
          </a:xfrm>
          <a:prstGeom prst="rect">
            <a:avLst/>
          </a:prstGeom>
          <a:ln w="0">
            <a:noFill/>
          </a:ln>
        </p:spPr>
      </p:pic>
      <p:sp>
        <p:nvSpPr>
          <p:cNvPr id="105" name="4 Rectángulo"/>
          <p:cNvSpPr/>
          <p:nvPr/>
        </p:nvSpPr>
        <p:spPr>
          <a:xfrm>
            <a:off x="1857240" y="357120"/>
            <a:ext cx="6072480" cy="56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16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olio Light"/>
            </a:endParaRPr>
          </a:p>
          <a:p>
            <a:pPr marL="268200" indent="-26820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16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olio Light"/>
            </a:endParaRPr>
          </a:p>
          <a:p>
            <a:pPr marL="268200" indent="-268200" algn="ctr">
              <a:lnSpc>
                <a:spcPct val="80000"/>
              </a:lnSpc>
              <a:tabLst>
                <a:tab algn="l" pos="0"/>
                <a:tab algn="l" pos="116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Folio Light"/>
              </a:rPr>
              <a:t>Web: www.ceain.acoge.org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marL="268200" indent="-268200" algn="ctr">
              <a:lnSpc>
                <a:spcPct val="80000"/>
              </a:lnSpc>
              <a:tabLst>
                <a:tab algn="l" pos="0"/>
                <a:tab algn="l" pos="116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Folio Ligh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Folio Light"/>
            </a:endParaRPr>
          </a:p>
          <a:p>
            <a:pPr marL="268200" indent="-268200" algn="ctr">
              <a:lnSpc>
                <a:spcPct val="80000"/>
              </a:lnSpc>
              <a:tabLst>
                <a:tab algn="l" pos="0"/>
                <a:tab algn="l" pos="116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00cc"/>
                </a:solidFill>
                <a:latin typeface="Century Gothic"/>
              </a:rPr>
              <a:t>SEDE CENTRAL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marL="268200" indent="-268200" algn="ctr">
              <a:lnSpc>
                <a:spcPct val="80000"/>
              </a:lnSpc>
              <a:tabLst>
                <a:tab algn="l" pos="0"/>
                <a:tab algn="l" pos="116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2060"/>
                </a:solidFill>
                <a:latin typeface="Century Gothic"/>
              </a:rPr>
              <a:t>JEREZ. C/ VICARIO 16. CP 11401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marL="268200" indent="-268200" algn="ctr">
              <a:lnSpc>
                <a:spcPct val="80000"/>
              </a:lnSpc>
              <a:tabLst>
                <a:tab algn="l" pos="0"/>
                <a:tab algn="l" pos="116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2060"/>
                </a:solidFill>
                <a:latin typeface="Century Gothic"/>
              </a:rPr>
              <a:t>Tfno: 956 34 95 85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marL="268200" indent="-268200" algn="ctr">
              <a:lnSpc>
                <a:spcPct val="80000"/>
              </a:lnSpc>
              <a:tabLst>
                <a:tab algn="l" pos="0"/>
                <a:tab algn="l" pos="116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3fafb7"/>
                </a:solidFill>
                <a:uFillTx/>
                <a:latin typeface="Century Gothic"/>
                <a:hlinkClick r:id="rId3"/>
              </a:rPr>
              <a:t>ceainjerez@acoge.org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marL="268200" indent="-268200" algn="ctr">
              <a:lnSpc>
                <a:spcPct val="80000"/>
              </a:lnSpc>
              <a:tabLst>
                <a:tab algn="l" pos="0"/>
                <a:tab algn="l" pos="116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marL="268200" indent="-268200" algn="ctr">
              <a:lnSpc>
                <a:spcPct val="80000"/>
              </a:lnSpc>
              <a:tabLst>
                <a:tab algn="l" pos="0"/>
                <a:tab algn="l" pos="116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00cc"/>
                </a:solidFill>
                <a:latin typeface="Century Gothic"/>
              </a:rPr>
              <a:t>CENTRO DE PROMOCIÓN SOCIOLABORAL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marL="268200" indent="-268200" algn="ctr">
              <a:lnSpc>
                <a:spcPct val="80000"/>
              </a:lnSpc>
              <a:tabLst>
                <a:tab algn="l" pos="0"/>
                <a:tab algn="l" pos="116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2060"/>
                </a:solidFill>
                <a:latin typeface="Century Gothic"/>
              </a:rPr>
              <a:t>JEREZ. C/ CARTUJA 2, 1º B. CP 11401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marL="268200" indent="-268200" algn="ctr">
              <a:lnSpc>
                <a:spcPct val="80000"/>
              </a:lnSpc>
              <a:tabLst>
                <a:tab algn="l" pos="0"/>
                <a:tab algn="l" pos="116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2060"/>
                </a:solidFill>
                <a:latin typeface="Century Gothic"/>
              </a:rPr>
              <a:t>Tfno: 956 33 09 26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marL="268200" indent="-268200" algn="ctr">
              <a:lnSpc>
                <a:spcPct val="80000"/>
              </a:lnSpc>
              <a:tabLst>
                <a:tab algn="l" pos="0"/>
                <a:tab algn="l" pos="116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3fafb7"/>
                </a:solidFill>
                <a:uFillTx/>
                <a:latin typeface="Century Gothic"/>
                <a:hlinkClick r:id="rId4"/>
              </a:rPr>
              <a:t>ceainlaboral@acoge.org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marL="268200" indent="-268200" algn="ctr">
              <a:lnSpc>
                <a:spcPct val="80000"/>
              </a:lnSpc>
              <a:tabLst>
                <a:tab algn="l" pos="0"/>
                <a:tab algn="l" pos="116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marL="268200" indent="-268200" algn="ctr">
              <a:lnSpc>
                <a:spcPct val="80000"/>
              </a:lnSpc>
              <a:tabLst>
                <a:tab algn="l" pos="0"/>
                <a:tab algn="l" pos="116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00cc"/>
                </a:solidFill>
                <a:latin typeface="Century Gothic"/>
              </a:rPr>
              <a:t>C</a:t>
            </a:r>
            <a:r>
              <a:rPr b="1" lang="es-ES_tradnl" sz="1800" spc="-1" strike="noStrike">
                <a:solidFill>
                  <a:srgbClr val="6600cc"/>
                </a:solidFill>
                <a:latin typeface="Century Gothic"/>
              </a:rPr>
              <a:t>ENTRO DE RECURSOS EDUCATIVOS Y DE MEDIACIÓN INTERCULTURAL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marL="268200" indent="-268200" algn="ctr">
              <a:lnSpc>
                <a:spcPct val="80000"/>
              </a:lnSpc>
              <a:tabLst>
                <a:tab algn="l" pos="0"/>
                <a:tab algn="l" pos="116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2060"/>
                </a:solidFill>
                <a:latin typeface="Century Gothic"/>
              </a:rPr>
              <a:t> </a:t>
            </a:r>
            <a:r>
              <a:rPr b="1" lang="es-ES" sz="1800" spc="-1" strike="noStrike">
                <a:solidFill>
                  <a:srgbClr val="002060"/>
                </a:solidFill>
                <a:latin typeface="Century Gothic"/>
              </a:rPr>
              <a:t>CÁDIZ </a:t>
            </a:r>
            <a:r>
              <a:rPr b="1" lang="es-ES_tradnl" sz="1800" spc="-1" strike="noStrike">
                <a:solidFill>
                  <a:srgbClr val="002060"/>
                </a:solidFill>
                <a:latin typeface="Century Gothic"/>
              </a:rPr>
              <a:t>C</a:t>
            </a:r>
            <a:r>
              <a:rPr b="1" lang="es-ES" sz="1800" spc="-1" strike="noStrike">
                <a:solidFill>
                  <a:srgbClr val="002060"/>
                </a:solidFill>
                <a:latin typeface="Century Gothic"/>
              </a:rPr>
              <a:t>/Corneta Soto Gerrero,9,1ºD</a:t>
            </a:r>
            <a:br>
              <a:rPr sz="1800"/>
            </a:br>
            <a:r>
              <a:rPr b="1" lang="es-ES" sz="1800" spc="-1" strike="noStrike">
                <a:solidFill>
                  <a:srgbClr val="002060"/>
                </a:solidFill>
                <a:latin typeface="Century Gothic"/>
              </a:rPr>
              <a:t>Telf: 956.21.21.46</a:t>
            </a:r>
            <a:br>
              <a:rPr sz="1800"/>
            </a:br>
            <a:r>
              <a:rPr b="0" lang="es-ES" sz="1800" spc="-1" strike="noStrike" u="sng">
                <a:solidFill>
                  <a:srgbClr val="3fafb7"/>
                </a:solidFill>
                <a:uFillTx/>
                <a:latin typeface="Century Gothic"/>
                <a:hlinkClick r:id="rId5"/>
              </a:rPr>
              <a:t>ceaincadiz@acoge.org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marL="268200" indent="-26820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16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marL="268200" indent="-26820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16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marL="268200" indent="-26820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16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0066"/>
                </a:solidFill>
                <a:latin typeface="Folio Light"/>
              </a:rPr>
              <a:t>“</a:t>
            </a:r>
            <a:r>
              <a:rPr b="1" lang="es-ES" sz="1800" spc="-1" strike="noStrike">
                <a:solidFill>
                  <a:srgbClr val="660066"/>
                </a:solidFill>
                <a:latin typeface="Folio Light"/>
              </a:rPr>
              <a:t>Toda persona tiene derecho a circular libremente”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marL="268200" indent="-26820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16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0066"/>
                </a:solidFill>
                <a:latin typeface="Folio Light"/>
              </a:rPr>
              <a:t>(Art.13 Declaración Universal de los Derechos Humanos)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</p:txBody>
      </p:sp>
      <p:pic>
        <p:nvPicPr>
          <p:cNvPr id="106" name="Picture 17" descr="lo"/>
          <p:cNvPicPr/>
          <p:nvPr/>
        </p:nvPicPr>
        <p:blipFill>
          <a:blip r:embed="rId6"/>
          <a:stretch/>
        </p:blipFill>
        <p:spPr>
          <a:xfrm>
            <a:off x="0" y="214200"/>
            <a:ext cx="2357280" cy="14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8"/>
          <p:cNvSpPr/>
          <p:nvPr/>
        </p:nvSpPr>
        <p:spPr>
          <a:xfrm>
            <a:off x="0" y="615636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www.cruzroja.es     902 22 22 92</a:t>
            </a:r>
            <a:endParaRPr b="0" lang="en-US" sz="1600" spc="-1" strike="noStrike">
              <a:solidFill>
                <a:srgbClr val="000000"/>
              </a:solidFill>
              <a:latin typeface="Folio Light"/>
            </a:endParaRPr>
          </a:p>
        </p:txBody>
      </p:sp>
      <p:pic>
        <p:nvPicPr>
          <p:cNvPr id="108" name="Picture 17" descr=""/>
          <p:cNvPicPr/>
          <p:nvPr/>
        </p:nvPicPr>
        <p:blipFill>
          <a:blip r:embed="rId1"/>
          <a:stretch/>
        </p:blipFill>
        <p:spPr>
          <a:xfrm>
            <a:off x="2971800" y="5334120"/>
            <a:ext cx="3200400" cy="82548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20"/>
          <p:cNvSpPr/>
          <p:nvPr/>
        </p:nvSpPr>
        <p:spPr>
          <a:xfrm>
            <a:off x="3657600" y="1447920"/>
            <a:ext cx="1752480" cy="3047760"/>
          </a:xfrm>
          <a:prstGeom prst="rect">
            <a:avLst/>
          </a:prstGeom>
          <a:solidFill>
            <a:srgbClr val="c00000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110" name="Text Box 21"/>
          <p:cNvSpPr/>
          <p:nvPr/>
        </p:nvSpPr>
        <p:spPr>
          <a:xfrm>
            <a:off x="3886200" y="1573200"/>
            <a:ext cx="1600200" cy="31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umanidad      </a:t>
            </a:r>
            <a:endParaRPr b="0" lang="en-US" sz="14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mparcialidad      </a:t>
            </a:r>
            <a:endParaRPr b="0" lang="en-US" sz="14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utralidad      </a:t>
            </a:r>
            <a:endParaRPr b="0" lang="en-US" sz="14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dependencia      </a:t>
            </a:r>
            <a:endParaRPr b="0" lang="en-US" sz="14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Voluntariado      </a:t>
            </a:r>
            <a:endParaRPr b="0" lang="en-US" sz="14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nidad      </a:t>
            </a:r>
            <a:endParaRPr b="0" lang="en-US" sz="14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niversalidad</a:t>
            </a:r>
            <a:endParaRPr b="0" lang="en-US" sz="1400" spc="-1" strike="noStrike">
              <a:solidFill>
                <a:srgbClr val="000000"/>
              </a:solidFill>
              <a:latin typeface="Folio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838080" y="152388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Rockwell BoldCondensed"/>
              </a:rPr>
              <a:t>Titular de portada</a:t>
            </a:r>
            <a:endParaRPr b="0" lang="en-US" sz="48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992880" y="243828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título</a:t>
            </a:r>
            <a:endParaRPr b="0" lang="en-US" sz="24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152280" y="6248520"/>
            <a:ext cx="8839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e0c1c"/>
                </a:solidFill>
                <a:latin typeface="Arial"/>
              </a:rPr>
              <a:t>Humanidad      Imparcialidad      Neutralidad      Independencia      Voluntariado      Unidad      Universalidad</a:t>
            </a:r>
            <a:endParaRPr b="0" lang="en-US" sz="14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0" y="594360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www.cruzroja.es     902 22 22 92</a:t>
            </a:r>
            <a:endParaRPr b="0" lang="en-US" sz="16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324000" y="155736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olio Light"/>
              </a:rPr>
              <a:t>Financiado por:</a:t>
            </a:r>
            <a:r>
              <a:rPr b="0" lang="en-US" sz="2400" spc="-1" strike="noStrike">
                <a:solidFill>
                  <a:srgbClr val="000000"/>
                </a:solidFill>
                <a:latin typeface="Folio Ligh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Folio Ligh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Folio Ligh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Folio Ligh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Folio Ligh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Folio Light"/>
              </a:rPr>
              <a:t>Colabora:</a:t>
            </a:r>
            <a:endParaRPr b="0" lang="en-US" sz="2400" spc="-1" strike="noStrike">
              <a:solidFill>
                <a:srgbClr val="000000"/>
              </a:solidFill>
              <a:latin typeface="Folio Light"/>
            </a:endParaRPr>
          </a:p>
        </p:txBody>
      </p:sp>
      <p:pic>
        <p:nvPicPr>
          <p:cNvPr id="116" name="Picture 12" descr=""/>
          <p:cNvPicPr/>
          <p:nvPr/>
        </p:nvPicPr>
        <p:blipFill>
          <a:blip r:embed="rId1"/>
          <a:stretch/>
        </p:blipFill>
        <p:spPr>
          <a:xfrm>
            <a:off x="2987640" y="5013360"/>
            <a:ext cx="3200400" cy="8254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6" descr="Logo FSE II Periodo PO"/>
          <p:cNvPicPr/>
          <p:nvPr/>
        </p:nvPicPr>
        <p:blipFill>
          <a:blip r:embed="rId2"/>
          <a:stretch/>
        </p:blipFill>
        <p:spPr>
          <a:xfrm>
            <a:off x="3780000" y="2060640"/>
            <a:ext cx="2376360" cy="7873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8" descr="logo empleo"/>
          <p:cNvPicPr/>
          <p:nvPr/>
        </p:nvPicPr>
        <p:blipFill>
          <a:blip r:embed="rId3"/>
          <a:stretch/>
        </p:blipFill>
        <p:spPr>
          <a:xfrm>
            <a:off x="2916360" y="333360"/>
            <a:ext cx="3095640" cy="1025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1" descr="Captura"/>
          <p:cNvPicPr/>
          <p:nvPr/>
        </p:nvPicPr>
        <p:blipFill>
          <a:blip r:embed="rId4"/>
          <a:stretch/>
        </p:blipFill>
        <p:spPr>
          <a:xfrm>
            <a:off x="250920" y="2133720"/>
            <a:ext cx="2570040" cy="7268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3" descr=""/>
          <p:cNvPicPr/>
          <p:nvPr/>
        </p:nvPicPr>
        <p:blipFill>
          <a:blip r:embed="rId5"/>
          <a:stretch/>
        </p:blipFill>
        <p:spPr>
          <a:xfrm>
            <a:off x="6443640" y="2205000"/>
            <a:ext cx="2289240" cy="6494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24"/>
          <p:cNvSpPr/>
          <p:nvPr/>
        </p:nvSpPr>
        <p:spPr>
          <a:xfrm>
            <a:off x="250920" y="34290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Folio Light"/>
              </a:rPr>
              <a:t>Participa:</a:t>
            </a:r>
            <a:endParaRPr b="0" lang="en-US" sz="24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122" name="Text Box 29"/>
          <p:cNvSpPr/>
          <p:nvPr/>
        </p:nvSpPr>
        <p:spPr>
          <a:xfrm>
            <a:off x="324000" y="2997360"/>
            <a:ext cx="770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Folio Light"/>
              </a:rPr>
              <a:t>Programa Operativo Plurirregional Lucha contra la Discriminación</a:t>
            </a:r>
            <a:endParaRPr b="0" lang="en-US" sz="1600" spc="-1" strike="noStrike">
              <a:solidFill>
                <a:srgbClr val="000000"/>
              </a:solidFill>
              <a:latin typeface="Folio Light"/>
            </a:endParaRPr>
          </a:p>
        </p:txBody>
      </p:sp>
      <p:pic>
        <p:nvPicPr>
          <p:cNvPr id="123" name="Picture 17" descr="lo"/>
          <p:cNvPicPr/>
          <p:nvPr/>
        </p:nvPicPr>
        <p:blipFill>
          <a:blip r:embed="rId6"/>
          <a:stretch/>
        </p:blipFill>
        <p:spPr>
          <a:xfrm>
            <a:off x="1763640" y="3573360"/>
            <a:ext cx="3384720" cy="14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8" descr="fondillo"/>
          <p:cNvPicPr/>
          <p:nvPr/>
        </p:nvPicPr>
        <p:blipFill>
          <a:blip r:embed="rId1"/>
          <a:stretch/>
        </p:blipFill>
        <p:spPr>
          <a:xfrm>
            <a:off x="1357200" y="0"/>
            <a:ext cx="6553440" cy="65530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2195640" y="2276640"/>
            <a:ext cx="44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olio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olio Light"/>
            </a:endParaRPr>
          </a:p>
        </p:txBody>
      </p:sp>
      <p:pic>
        <p:nvPicPr>
          <p:cNvPr id="57" name="Picture 65" descr="52"/>
          <p:cNvPicPr/>
          <p:nvPr/>
        </p:nvPicPr>
        <p:blipFill>
          <a:blip r:embed="rId2"/>
          <a:stretch/>
        </p:blipFill>
        <p:spPr>
          <a:xfrm>
            <a:off x="146160" y="5872320"/>
            <a:ext cx="8851680" cy="874440"/>
          </a:xfrm>
          <a:prstGeom prst="rect">
            <a:avLst/>
          </a:prstGeom>
          <a:ln w="0">
            <a:noFill/>
          </a:ln>
        </p:spPr>
      </p:pic>
      <p:sp>
        <p:nvSpPr>
          <p:cNvPr id="58" name="4 Rectángulo"/>
          <p:cNvSpPr/>
          <p:nvPr/>
        </p:nvSpPr>
        <p:spPr>
          <a:xfrm>
            <a:off x="785880" y="50004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¿QUÉ ES CEAIN?</a:t>
            </a:r>
            <a:endParaRPr b="0" lang="en-US" sz="24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59" name="5 Rectángulo"/>
          <p:cNvSpPr/>
          <p:nvPr/>
        </p:nvSpPr>
        <p:spPr>
          <a:xfrm>
            <a:off x="500040" y="1000080"/>
            <a:ext cx="82868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CEAIN (Centro de Acogida de Inmigrantes) es una Organización No Gubernamental constituida en 1992  y federada en </a:t>
            </a:r>
            <a:r>
              <a:rPr b="1" i="1" lang="es-ES_tradnl" sz="2000" spc="-1" strike="noStrike">
                <a:solidFill>
                  <a:srgbClr val="000000"/>
                </a:solidFill>
                <a:latin typeface="Calibri"/>
              </a:rPr>
              <a:t>Andalucía Acoge</a:t>
            </a: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2060"/>
                </a:solidFill>
                <a:latin typeface="Calibri"/>
              </a:rPr>
              <a:t>Los fundamentos que guían nuestro trabajo: </a:t>
            </a: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La defensa de los derechos de los inmigrantes: informándoles y asesorándoles.</a:t>
            </a: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La inserción y promoción sociocultural y laboral, desde el respeto a sus raíces culturales y el reconocimiento a su </a:t>
            </a: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contribución socioeconómica.</a:t>
            </a: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La mediación intercultural como instrumento preventivo y de resolución de conflictos.</a:t>
            </a: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La sensibilización y formación de agentes socioeducativos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8" descr="fondillo"/>
          <p:cNvPicPr/>
          <p:nvPr/>
        </p:nvPicPr>
        <p:blipFill>
          <a:blip r:embed="rId1"/>
          <a:stretch/>
        </p:blipFill>
        <p:spPr>
          <a:xfrm>
            <a:off x="1000080" y="304920"/>
            <a:ext cx="6553080" cy="65530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428760" y="2786040"/>
            <a:ext cx="835812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Calibri"/>
              </a:rPr>
              <a:t>Para llevar a cabo esta labor CEAIN cuenta en la actualidad con 4 programas de empleo</a:t>
            </a: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GLOBALemplea</a:t>
            </a:r>
            <a:endParaRPr b="0" lang="en-US" sz="32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Andalucía Orienta</a:t>
            </a:r>
            <a:endParaRPr b="0" lang="en-US" sz="32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EPES</a:t>
            </a:r>
            <a:endParaRPr b="0" lang="en-US" sz="32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Taller de Empleo: Mediainter</a:t>
            </a:r>
            <a:endParaRPr b="0" lang="en-US" sz="3200" spc="-1" strike="noStrike">
              <a:solidFill>
                <a:srgbClr val="000000"/>
              </a:solidFill>
              <a:latin typeface="Folio Light"/>
            </a:endParaRPr>
          </a:p>
        </p:txBody>
      </p:sp>
      <p:pic>
        <p:nvPicPr>
          <p:cNvPr id="62" name="Picture 65" descr="52"/>
          <p:cNvPicPr/>
          <p:nvPr/>
        </p:nvPicPr>
        <p:blipFill>
          <a:blip r:embed="rId2"/>
          <a:stretch/>
        </p:blipFill>
        <p:spPr>
          <a:xfrm>
            <a:off x="146160" y="5872320"/>
            <a:ext cx="8851680" cy="874440"/>
          </a:xfrm>
          <a:prstGeom prst="rect">
            <a:avLst/>
          </a:prstGeom>
          <a:ln w="0">
            <a:noFill/>
          </a:ln>
        </p:spPr>
      </p:pic>
      <p:sp>
        <p:nvSpPr>
          <p:cNvPr id="63" name="5 Rectángulo"/>
          <p:cNvSpPr/>
          <p:nvPr/>
        </p:nvSpPr>
        <p:spPr>
          <a:xfrm>
            <a:off x="357120" y="285840"/>
            <a:ext cx="850104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2060"/>
                </a:solidFill>
                <a:latin typeface="Calibri"/>
              </a:rPr>
              <a:t>CENTRO DE PROMOCIÓN SOCIOLABORAL DE CEAIN</a:t>
            </a:r>
            <a:endParaRPr b="0" lang="en-US" sz="24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Desde CEAIN trabajamos para contribuir a la inserción sociolaboral de las personas inmigrantes en la sociedad de acogida mediante el desarrollo de estrategias para favorecer el acceso al Mercado de Trabajo, en igualdad de oportunidades para mujeres y hombres, independientemente de su origen y tomando en consideración la especificad del colectivo, atendiendo tanto a los aspectos culturales como  individuales</a:t>
            </a: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68" descr="fondillo"/>
          <p:cNvPicPr/>
          <p:nvPr/>
        </p:nvPicPr>
        <p:blipFill>
          <a:blip r:embed="rId1"/>
          <a:stretch/>
        </p:blipFill>
        <p:spPr>
          <a:xfrm>
            <a:off x="1285920" y="0"/>
            <a:ext cx="6553080" cy="65530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"/>
          <p:cNvSpPr/>
          <p:nvPr/>
        </p:nvSpPr>
        <p:spPr>
          <a:xfrm>
            <a:off x="2195640" y="2276640"/>
            <a:ext cx="44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olio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olio Light"/>
            </a:endParaRPr>
          </a:p>
        </p:txBody>
      </p:sp>
      <p:pic>
        <p:nvPicPr>
          <p:cNvPr id="66" name="Picture 65" descr="52"/>
          <p:cNvPicPr/>
          <p:nvPr/>
        </p:nvPicPr>
        <p:blipFill>
          <a:blip r:embed="rId2"/>
          <a:stretch/>
        </p:blipFill>
        <p:spPr>
          <a:xfrm>
            <a:off x="146160" y="5872320"/>
            <a:ext cx="8851680" cy="874440"/>
          </a:xfrm>
          <a:prstGeom prst="rect">
            <a:avLst/>
          </a:prstGeom>
          <a:ln w="0">
            <a:noFill/>
          </a:ln>
        </p:spPr>
      </p:pic>
      <p:sp>
        <p:nvSpPr>
          <p:cNvPr id="67" name="6 Rectángulo"/>
          <p:cNvSpPr/>
          <p:nvPr/>
        </p:nvSpPr>
        <p:spPr>
          <a:xfrm>
            <a:off x="428760" y="571680"/>
            <a:ext cx="80722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Calibri"/>
                <a:ea typeface="Arial"/>
              </a:rPr>
              <a:t>PERFIL DE LOS/AS USUARIOS/AS</a:t>
            </a: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Calibri"/>
                <a:ea typeface="Arial"/>
              </a:rPr>
              <a:t>Colectivo: P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Arial"/>
              </a:rPr>
              <a:t>ersonas </a:t>
            </a:r>
            <a:r>
              <a:rPr b="1" lang="es-ES_tradnl" sz="2000" spc="-1" strike="noStrike">
                <a:solidFill>
                  <a:srgbClr val="000000"/>
                </a:solidFill>
                <a:latin typeface="Calibri"/>
                <a:ea typeface="Arial"/>
              </a:rPr>
              <a:t>extranjeras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Arial"/>
              </a:rPr>
              <a:t>. Mayoritariamente procedentes de países extracomunitarios y/o nacionales de los estados miembros de la Unión Europea</a:t>
            </a: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Calibri"/>
                <a:ea typeface="Arial"/>
              </a:rPr>
              <a:t>Países de Procedencia: </a:t>
            </a: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Bolivia, Marruecos</a:t>
            </a:r>
            <a:r>
              <a:rPr b="1" lang="es-ES_tradn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Colombia,</a:t>
            </a:r>
            <a:r>
              <a:rPr b="1" lang="es-ES_tradn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Ecuador, Ucrania</a:t>
            </a:r>
            <a:r>
              <a:rPr b="1" lang="es-ES_tradn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Rumania</a:t>
            </a:r>
            <a:r>
              <a:rPr b="1" lang="es-ES_tradn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Argentina, Brasil</a:t>
            </a:r>
            <a:r>
              <a:rPr b="1" lang="es-ES_tradn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Sahara Occidental, </a:t>
            </a:r>
            <a:r>
              <a:rPr b="1" lang="es-ES_tradn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Venezuela,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enegal, Rusia, </a:t>
            </a:r>
            <a:r>
              <a:rPr b="1" lang="es-ES_tradn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erú,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Cuba. En menor mediada, Méjico, Paraguay, Honduras, Salvador, Nicaragua, Japón, Inglaterra, Italia, Francia,  Portugal y Estados Unidos. </a:t>
            </a: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Calibri"/>
                <a:ea typeface="Arial"/>
              </a:rPr>
              <a:t>Sexo:</a:t>
            </a: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  <a:ea typeface="Arial"/>
              </a:rPr>
              <a:t>6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Arial"/>
              </a:rPr>
              <a:t>0% Mujeres y </a:t>
            </a:r>
            <a:r>
              <a:rPr b="1" lang="es-ES_tradnl" sz="2000" spc="-1" strike="noStrike">
                <a:solidFill>
                  <a:srgbClr val="000000"/>
                </a:solidFill>
                <a:latin typeface="Calibri"/>
                <a:ea typeface="Arial"/>
              </a:rPr>
              <a:t>4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Arial"/>
              </a:rPr>
              <a:t>0 % Hombres</a:t>
            </a: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Calibri"/>
                <a:ea typeface="Arial"/>
              </a:rPr>
              <a:t>Edad: </a:t>
            </a: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Arial"/>
              </a:rPr>
              <a:t>Entre17 y 60 años</a:t>
            </a:r>
            <a:r>
              <a:rPr b="1" lang="es-ES_tradnl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68" descr="fondillo"/>
          <p:cNvPicPr/>
          <p:nvPr/>
        </p:nvPicPr>
        <p:blipFill>
          <a:blip r:embed="rId1"/>
          <a:stretch/>
        </p:blipFill>
        <p:spPr>
          <a:xfrm>
            <a:off x="1403280" y="189000"/>
            <a:ext cx="6553440" cy="655308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2195640" y="2276640"/>
            <a:ext cx="44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olio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olio Light"/>
            </a:endParaRPr>
          </a:p>
        </p:txBody>
      </p:sp>
      <p:pic>
        <p:nvPicPr>
          <p:cNvPr id="70" name="Picture 65" descr="52"/>
          <p:cNvPicPr/>
          <p:nvPr/>
        </p:nvPicPr>
        <p:blipFill>
          <a:blip r:embed="rId2"/>
          <a:stretch/>
        </p:blipFill>
        <p:spPr>
          <a:xfrm>
            <a:off x="146160" y="5872320"/>
            <a:ext cx="8851680" cy="874440"/>
          </a:xfrm>
          <a:prstGeom prst="rect">
            <a:avLst/>
          </a:prstGeom>
          <a:ln w="0">
            <a:noFill/>
          </a:ln>
        </p:spPr>
      </p:pic>
      <p:sp>
        <p:nvSpPr>
          <p:cNvPr id="71" name="5 Rectángulo"/>
          <p:cNvSpPr/>
          <p:nvPr/>
        </p:nvSpPr>
        <p:spPr>
          <a:xfrm>
            <a:off x="428760" y="357120"/>
            <a:ext cx="8143920" cy="51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Calibri"/>
                <a:ea typeface="Arial"/>
              </a:rPr>
              <a:t>Situación Administrativa: </a:t>
            </a: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Arial"/>
              </a:rPr>
              <a:t>Residencia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/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Arial"/>
              </a:rPr>
              <a:t>Residencia  y Trabajo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/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Arial"/>
              </a:rPr>
              <a:t>Visado Estudiante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/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Arial"/>
              </a:rPr>
              <a:t>Nacionalizado-as</a:t>
            </a: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Calibri"/>
                <a:ea typeface="Arial"/>
              </a:rPr>
              <a:t>Estudios: </a:t>
            </a: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Arial"/>
              </a:rPr>
              <a:t>Mayoritariamente con Secundaria / Bachiller  (sin homologación de estudios realizados en país de origen)</a:t>
            </a: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Arial"/>
              </a:rPr>
              <a:t>Estudios Universitarios (pocos casos inician tramites de homologación)</a:t>
            </a: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Arial"/>
              </a:rPr>
              <a:t>En menor medida primaria y “muy excepcionalmente” </a:t>
            </a:r>
            <a:r>
              <a:rPr b="1" lang="es-ES_tradnl" sz="2000" spc="-1" strike="noStrike">
                <a:solidFill>
                  <a:srgbClr val="000000"/>
                </a:solidFill>
                <a:latin typeface="Calibri"/>
                <a:ea typeface="Arial"/>
              </a:rPr>
              <a:t>sin alfabetizar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Calibri"/>
                <a:ea typeface="Arial"/>
              </a:rPr>
              <a:t>Las Ocupaciones más Demandadas por las mujeres son : </a:t>
            </a: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Empleadas de Hogar, Cuidadoras anciana-os/niña-os, Auxiliares de Limpieza,  Ayudantes de Cocina o Camareras, Reponedoras – Cajeras, Camareras de Piso, Recepcionistas Hoteles, Dependientas de Comercio, Administrativas, Secretarias, Costureras, Auxiliares de Geriatría / Clínica. Casera /Guardes (en pareja ). Operarias de Fábrica</a:t>
            </a: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68" descr="fondillo"/>
          <p:cNvPicPr/>
          <p:nvPr/>
        </p:nvPicPr>
        <p:blipFill>
          <a:blip r:embed="rId1"/>
          <a:stretch/>
        </p:blipFill>
        <p:spPr>
          <a:xfrm>
            <a:off x="1357200" y="304920"/>
            <a:ext cx="6553440" cy="65530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2195640" y="2276640"/>
            <a:ext cx="44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olio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olio Light"/>
            </a:endParaRPr>
          </a:p>
        </p:txBody>
      </p:sp>
      <p:pic>
        <p:nvPicPr>
          <p:cNvPr id="74" name="Picture 65" descr="52"/>
          <p:cNvPicPr/>
          <p:nvPr/>
        </p:nvPicPr>
        <p:blipFill>
          <a:blip r:embed="rId2"/>
          <a:stretch/>
        </p:blipFill>
        <p:spPr>
          <a:xfrm>
            <a:off x="146160" y="5872320"/>
            <a:ext cx="8851680" cy="874440"/>
          </a:xfrm>
          <a:prstGeom prst="rect">
            <a:avLst/>
          </a:prstGeom>
          <a:ln w="0">
            <a:noFill/>
          </a:ln>
        </p:spPr>
      </p:pic>
      <p:sp>
        <p:nvSpPr>
          <p:cNvPr id="75" name="5 Rectángulo"/>
          <p:cNvSpPr/>
          <p:nvPr/>
        </p:nvSpPr>
        <p:spPr>
          <a:xfrm>
            <a:off x="428760" y="500040"/>
            <a:ext cx="842940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2060"/>
                </a:solidFill>
                <a:latin typeface="Calibri"/>
              </a:rPr>
              <a:t>Programa Andalucía Orienta</a:t>
            </a: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Perfil beneficiario/a:  Personas extranjeras en situación Regular inscritos en SAE.</a:t>
            </a: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Asesoramiento e Itinerarios personalizados para la inserción laboral.</a:t>
            </a: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Acompañamiento en la búsqueda de empleo.</a:t>
            </a: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Talleres de formación prelaboral: TBAE</a:t>
            </a: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Información y asesoramiento en extranjería</a:t>
            </a: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2060"/>
                </a:solidFill>
                <a:latin typeface="Calibri"/>
              </a:rPr>
              <a:t>Servicio de ATENCIÓN PSICOSOCIAL</a:t>
            </a: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Atención individualizada y sesiones grupales</a:t>
            </a: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Ofrece apoyo psicosocial a los/as usuarios/as que lo precisen para superar el desarraigo migratorio a través de </a:t>
            </a: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estrategias para afrontar el estrés, la ansiedad y la desmotivación.</a:t>
            </a:r>
            <a:r>
              <a:rPr b="1" lang="es-ES" sz="2000" spc="-1" strike="noStrike">
                <a:solidFill>
                  <a:srgbClr val="000000"/>
                </a:solidFill>
                <a:latin typeface="Folio Ligh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Planificación o reajuste del proyecto migratorio.</a:t>
            </a: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68" descr="fondillo"/>
          <p:cNvPicPr/>
          <p:nvPr/>
        </p:nvPicPr>
        <p:blipFill>
          <a:blip r:embed="rId1"/>
          <a:stretch/>
        </p:blipFill>
        <p:spPr>
          <a:xfrm>
            <a:off x="1000080" y="0"/>
            <a:ext cx="6553080" cy="65530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"/>
          <p:cNvSpPr/>
          <p:nvPr/>
        </p:nvSpPr>
        <p:spPr>
          <a:xfrm>
            <a:off x="2195640" y="2276640"/>
            <a:ext cx="44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olio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olio Light"/>
            </a:endParaRPr>
          </a:p>
        </p:txBody>
      </p:sp>
      <p:pic>
        <p:nvPicPr>
          <p:cNvPr id="78" name="Picture 65" descr="52"/>
          <p:cNvPicPr/>
          <p:nvPr/>
        </p:nvPicPr>
        <p:blipFill>
          <a:blip r:embed="rId2"/>
          <a:stretch/>
        </p:blipFill>
        <p:spPr>
          <a:xfrm>
            <a:off x="146160" y="5872320"/>
            <a:ext cx="8851680" cy="874440"/>
          </a:xfrm>
          <a:prstGeom prst="rect">
            <a:avLst/>
          </a:prstGeom>
          <a:ln w="0">
            <a:noFill/>
          </a:ln>
        </p:spPr>
      </p:pic>
      <p:sp>
        <p:nvSpPr>
          <p:cNvPr id="79" name="5 Rectángulo"/>
          <p:cNvSpPr/>
          <p:nvPr/>
        </p:nvSpPr>
        <p:spPr>
          <a:xfrm>
            <a:off x="571680" y="785880"/>
            <a:ext cx="8001000" cy="41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2060"/>
                </a:solidFill>
                <a:latin typeface="Calibri"/>
              </a:rPr>
              <a:t>Programa “EPES” Experiencias Profesionales para el empleo. </a:t>
            </a:r>
            <a:endParaRPr b="0" lang="en-US" sz="24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Proporcionar a las personas desempleadas, practicas profesionales en empresas para acercarles al mundo laboral y favorecer su integración.</a:t>
            </a: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Perfil beneficiario/a: usuarios/as del programa Andalucía orienta que se encuentren desarrollando un IPI </a:t>
            </a: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Prácticas profesionales en empresas con tutorías de 2 meses</a:t>
            </a: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Posibilidad de becas de hasta el 75% del SMI</a:t>
            </a: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68" descr="fondillo"/>
          <p:cNvPicPr/>
          <p:nvPr/>
        </p:nvPicPr>
        <p:blipFill>
          <a:blip r:embed="rId1"/>
          <a:stretch/>
        </p:blipFill>
        <p:spPr>
          <a:xfrm>
            <a:off x="1403280" y="189000"/>
            <a:ext cx="6553440" cy="65530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"/>
          <p:cNvSpPr/>
          <p:nvPr/>
        </p:nvSpPr>
        <p:spPr>
          <a:xfrm>
            <a:off x="2195640" y="2276640"/>
            <a:ext cx="44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olio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olio Light"/>
            </a:endParaRPr>
          </a:p>
        </p:txBody>
      </p:sp>
      <p:pic>
        <p:nvPicPr>
          <p:cNvPr id="82" name="Picture 65" descr="52"/>
          <p:cNvPicPr/>
          <p:nvPr/>
        </p:nvPicPr>
        <p:blipFill>
          <a:blip r:embed="rId2"/>
          <a:stretch/>
        </p:blipFill>
        <p:spPr>
          <a:xfrm>
            <a:off x="146160" y="5872320"/>
            <a:ext cx="8851680" cy="874440"/>
          </a:xfrm>
          <a:prstGeom prst="rect">
            <a:avLst/>
          </a:prstGeom>
          <a:ln w="0">
            <a:noFill/>
          </a:ln>
        </p:spPr>
      </p:pic>
      <p:sp>
        <p:nvSpPr>
          <p:cNvPr id="83" name="4 CuadroTexto"/>
          <p:cNvSpPr/>
          <p:nvPr/>
        </p:nvSpPr>
        <p:spPr>
          <a:xfrm>
            <a:off x="500040" y="357120"/>
            <a:ext cx="83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0280" indent="-5302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16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  <a:p>
            <a:pPr marL="530280" indent="-530280">
              <a:lnSpc>
                <a:spcPct val="100000"/>
              </a:lnSpc>
              <a:tabLst>
                <a:tab algn="l" pos="0"/>
                <a:tab algn="l" pos="116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84" name="6 Rectángulo"/>
          <p:cNvSpPr/>
          <p:nvPr/>
        </p:nvSpPr>
        <p:spPr>
          <a:xfrm>
            <a:off x="642960" y="714240"/>
            <a:ext cx="7858080" cy="40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2060"/>
                </a:solidFill>
                <a:latin typeface="Calibri"/>
              </a:rPr>
              <a:t>Programa  “GLOBALemplea” </a:t>
            </a:r>
            <a:endParaRPr b="0" lang="en-US" sz="24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Perfil beneficiario/as: en situación regular e Irregular</a:t>
            </a: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Información y asesoramiento en extranjería</a:t>
            </a: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Itinerarios personalizados de formación y de inserción laboral.</a:t>
            </a: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Acompañamiento en la búsqueda de empleo.</a:t>
            </a: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Talleres de formación prelaboral: TBAE</a:t>
            </a: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Servicio de </a:t>
            </a: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Intermediación laboral</a:t>
            </a: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CAMPAÑA DE REVALORIZACIÓN DE EMPLEADAS DE HOGAR</a:t>
            </a: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     “</a:t>
            </a: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EMPLEADA, NI SIRVIENTA NI CRIADA”</a:t>
            </a: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8" descr="fondillo"/>
          <p:cNvPicPr/>
          <p:nvPr/>
        </p:nvPicPr>
        <p:blipFill>
          <a:blip r:embed="rId1"/>
          <a:stretch/>
        </p:blipFill>
        <p:spPr>
          <a:xfrm>
            <a:off x="1403280" y="189000"/>
            <a:ext cx="6553440" cy="65530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2195640" y="2276640"/>
            <a:ext cx="44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olio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olio Light"/>
            </a:endParaRPr>
          </a:p>
        </p:txBody>
      </p:sp>
      <p:pic>
        <p:nvPicPr>
          <p:cNvPr id="87" name="Picture 65" descr="52"/>
          <p:cNvPicPr/>
          <p:nvPr/>
        </p:nvPicPr>
        <p:blipFill>
          <a:blip r:embed="rId2"/>
          <a:stretch/>
        </p:blipFill>
        <p:spPr>
          <a:xfrm>
            <a:off x="146160" y="5872320"/>
            <a:ext cx="8851680" cy="874440"/>
          </a:xfrm>
          <a:prstGeom prst="rect">
            <a:avLst/>
          </a:prstGeom>
          <a:ln w="0">
            <a:noFill/>
          </a:ln>
        </p:spPr>
      </p:pic>
      <p:sp>
        <p:nvSpPr>
          <p:cNvPr id="88" name="4 CuadroTexto"/>
          <p:cNvSpPr/>
          <p:nvPr/>
        </p:nvSpPr>
        <p:spPr>
          <a:xfrm>
            <a:off x="285840" y="395280"/>
            <a:ext cx="864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89" name="6 Rectángulo"/>
          <p:cNvSpPr/>
          <p:nvPr/>
        </p:nvSpPr>
        <p:spPr>
          <a:xfrm>
            <a:off x="285840" y="500040"/>
            <a:ext cx="8572320" cy="47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2060"/>
                </a:solidFill>
                <a:latin typeface="Calibri"/>
              </a:rPr>
              <a:t>TALLER DE EMPLEO MEDIAINTER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2060"/>
                </a:solidFill>
                <a:latin typeface="Calibri"/>
              </a:rPr>
              <a:t>Cualificación Profesional en Mediación Intercultural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2060"/>
                </a:solidFill>
                <a:latin typeface="Calibri"/>
              </a:rPr>
              <a:t>QUE ES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Programa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mixto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que combina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acciones de formación-empleo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, en actividades relacionadas con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nuevos yacimientos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de empleo de interés general y social, promovidos por entidades públicas o privadas sin ánimo de lucro.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2060"/>
                </a:solidFill>
                <a:latin typeface="Calibri"/>
              </a:rPr>
              <a:t>JUSTIFICACIÓN: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Necesidad, de las personas de origen extranjero de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reformular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su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perfil laboral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, a través 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de la capacitación profesional ocupacional, y al mismo tiempo posibilitar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la diversificación 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de ocupaciones en el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mercado de trabajo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cesidad de contar con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mediadores/as interculturales cualificados en la provincia de 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Cádiz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ara trabajar en diferentes ámbitos de intervención: comunitario, sanitario, 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ducativo, laboral, jurídico.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Interés de la entidad promotora de desarrollar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acciones formativas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en mediación 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intercultural, acorde con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nuestra trayectoria de trabajo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18:39:43Z</dcterms:created>
  <dc:creator>Ali Delgado</dc:creator>
  <dc:description/>
  <dc:language>en-US</dc:language>
  <cp:lastModifiedBy>11000 IS Africa Boceta Cecilio</cp:lastModifiedBy>
  <dcterms:modified xsi:type="dcterms:W3CDTF">2009-10-29T17:17:35Z</dcterms:modified>
  <cp:revision>143</cp:revision>
  <dc:subject/>
  <dc:title>Presentación de PowerPoint</dc:title>
</cp:coreProperties>
</file>