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1001232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10012320"/>
              <a:gd name="textAreaBottom" fmla="*/ 10011960 h 10012320"/>
            </a:gdLst>
            <a:ahLst/>
            <a:rect l="textAreaLeft" t="textAreaTop" r="textAreaRight" b="textAreaBottom"/>
            <a:pathLst>
              <a:path w="21600" h="31534">
                <a:moveTo>
                  <a:pt x="5" y="0"/>
                </a:moveTo>
                <a:arcTo wR="5" hR="5" stAng="16200000" swAng="-5400000"/>
                <a:lnTo>
                  <a:pt x="0" y="31529"/>
                </a:lnTo>
                <a:arcTo wR="5" hR="5" stAng="10800000" swAng="-5400000"/>
                <a:lnTo>
                  <a:pt x="21595" y="3153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776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951192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4FB123-AE7F-4692-BA50-929A727D86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7000" y="750960"/>
            <a:ext cx="5005440" cy="375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3F8-00B1-4267-B643-592EDAD1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951-26A7-445E-B426-66A52220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D06-09FA-4B9C-9061-A1AA1A11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DFB-6D08-456E-A479-C9B2E2A8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BA4-D84C-458D-A7D1-EC5FB6CB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6C7-0357-4648-BE30-7B84F33F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5C9-7BE4-498A-816F-BB78AA5E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73C-208C-48BB-A791-0F827DA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B48-09E7-4DBD-85D5-CCE08BE6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A42-D3E2-4A1D-90DB-4AC962B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0BC-0978-4E32-8246-CACC4DE1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B55-2442-4CED-A45C-2F09F65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E27951-C13A-4946-B88A-3089B35ED21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6720" y="3500280"/>
            <a:ext cx="74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96280" y="4227480"/>
            <a:ext cx="56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olio Light"/>
              </a:rPr>
              <a:t>para combatir la discrimi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7080" y="2776680"/>
            <a:ext cx="30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Folio Light"/>
              </a:rPr>
              <a:t>Programa de activ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156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3200400" cy="82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57600" y="1447920"/>
            <a:ext cx="1752480" cy="304776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573200"/>
            <a:ext cx="16002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Huma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Imparci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Neutr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Independencia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Voluntariado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U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216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129440" cy="475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4000" y="155736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Folio Light"/>
              </a:rPr>
              <a:t>RED INTERLABOR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836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lio Light"/>
              </a:rPr>
              <a:t>PLAN DE EMP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95640" y="292428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Folio Light"/>
              </a:rPr>
              <a:t>A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1268280"/>
            <a:ext cx="799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Folio Light"/>
              </a:rPr>
              <a:t>Diseñar y desarrollar itinerarios integrados personalizados de inserción sociolaboral para inmigrantes. Su desarrollo se realizará de forma individualizada, adaptado  por un lado a las necesidades y características individuales de las personas destinatarias y por otro al entorno socio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1413000"/>
            <a:ext cx="5761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Folio Light"/>
              </a:rPr>
              <a:t>Estos itinerarios incluirán acciones de orientación: grupal e individual; formación prelaboral; cualificación profesional; intermediación laboral con l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404640"/>
            <a:ext cx="554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En el desarrollo de este progra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197000"/>
            <a:ext cx="604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Folio Light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Se mejoran las posibilidades de trabajo de las personas inmigrantes, a través de la mejora de las competencias profesionales  facilitando el acceso a las políticas de empl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249228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-Se incrementa la participación en el empleo de estas personas en condiciones de igualdad como vía para la integración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57336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-Se debilitan las barreras que frenan la incorporación de los grupos y personas más vulnerables al mercado laboral, luchando contra la discrimin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94172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-Se trabaja desde una perspectiva intercultural y de integ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549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PERFIL DE MUJER QUE SE ACERCA  A NUESTROS DISPOSI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76341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Mujeres en situación de vulnerabilidad con escasa experiencia profesional ó centrada en un único sector ó experi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Bajo niveles formativos para el empl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Experiencia laborales limitadas en determinados sec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Elevada resistencia al camb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Ingresos mínimos y reducidos que imposibilitan el desarrollo continuado en los itiner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Dificultades para conciliar la vida laboral, familiar y pers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981000"/>
            <a:ext cx="76341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Problemas de autoestima generados por expectativas de empleo que no cumplen y por desconocimientos de recur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Infravaloración de las competencias profesionales adquiridas en origen o experiencias laborales en la economía inform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Motivación fluctuante en los procesos de búsqueda de empl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Nivel alto de ansiedad para el desarrollo completo de los itiner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Mujeres con deterioro físico y social, psicológico y personal muy deterio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  <a:ea typeface="Lucida Sans Unicode"/>
              </a:rPr>
              <a:t>Miedo a enfrentarse a la situación re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03280" y="1341360"/>
            <a:ext cx="56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Folio Light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Folio Light"/>
              </a:rPr>
              <a:t>Todas las mujeres que participan en estos servicios son un ejemplo de superación para todas las perso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84360" y="2276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olio Light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11000 IS Africa Boceta Cecilio</cp:lastModifiedBy>
  <dcterms:modified xsi:type="dcterms:W3CDTF">2009-10-29T17:11:03Z</dcterms:modified>
  <cp:revision>78</cp:revision>
  <dc:subject/>
  <dc:title>Presentación de PowerPoint</dc:title>
</cp:coreProperties>
</file>