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3A8-ED3F-4A60-B77A-85EBCD58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E2A-6184-4327-848D-494A343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E157-B7EC-496A-853C-2B9F619C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010-B14E-4B44-82F3-60DEB878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E1DD-EDC8-4A9E-8FD4-DA28AF25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7ACC-2AA2-4E3F-9FA1-988541A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6672-4DCC-4C62-8512-423CABC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57D-E15A-4BE2-BA0E-F9FA3DD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F69-E519-4B1F-AC19-125A0D14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9717-877A-457D-898F-686EF919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6690-A132-479A-9A61-69278EA7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8C1-AD48-4CE3-BC5C-38915901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492B-B41F-438D-9418-519F0B24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2D5A-A24D-4C5B-B209-FCC0FF85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FAF8-7904-4EA3-AEBC-EC9F195A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3B95-4CDC-4ED5-977F-6C521752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AB83-85D6-46AF-A5F8-5506F025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708-1917-4C1E-BD33-3D3DB77F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D08-A958-4DC5-8012-62CEC9FC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0FC-E8E0-4CC7-BC10-47AD77E6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3DB-77FE-4963-9C6A-31810EB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A50A-79D7-44C7-9D9A-785083B6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376-34D3-483D-9B7B-050DB2F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F9F-6EE0-4342-823F-A9A88DE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4566-7AAF-415F-B859-7848496353B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B712-C8E8-4B8B-93A0-E604E5D148B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51280" y="5013360"/>
            <a:ext cx="2592360" cy="1247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755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álisis del mercado de trabajo y la situación laboral de mujeres autóctonas e inmigrantes:  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untos de encuentro, puntos de inflex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3357360"/>
            <a:ext cx="86407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Jornadas CRUZ ROJ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onstruyendo oportunidades para el empleo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ádiz, 30 de octubre 2009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Puntos en común: lo que nos beneficia a tod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generalidad de la ley hay que concretarla en los convenios colectivos y en los planes de igualda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 el ámbito de aplicación de un convenio o de un plan es mucho más fácil detectar y corregir las discriminaciones laborales por razón de sex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4A6-D092-4C16-9D14-55725B8B85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Puntos de diferencia: en lo que hay que avanzar un poc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la hora establecer políticas, de negociar convenios con perspectiva de género y planes de igualdad no podemos olvidar las dobles discriminaciones de las mujeres inmigrantes, es important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Visibilizar el colectivo, mayor participación como ciudadanas, accesibilidad a los recursos y a la información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acer políticas específicas que atiendan a la realidad de estas mujeres, y que incentiven su plena integración social y labora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189-EAD4-40CA-B496-6EC7D353D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Puntos de diferencia: en lo que hay que avanzar un poc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clusión de cláusulas de acción positiva en convenios y en planes en aquellos centros/sectores dónde haya mujeres inmigrant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égimen de empleadas de hogar debe pertenecer al Régimen Genera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8E6-BF72-4D2F-A770-3D24EA89CA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PROPUESTAS DE UGT ANDALUC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CRISIS DEBE SER UNA OPORTUNIDAD DE CAMBIO HACÍA LA IGUALDAD DE MUJERES Y HOMBRES Y NO UN RECESO DE DERECHOS SOCIAL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 DEBE IMPULSAR UNA TRANSFORMACIÓN EN LA NEGOCIACIÓN COLECTIVA, PARA QUE LOS CONVENIOS SEAN TAMBIÉN UN INSTRUMENTO DE CAMBIO SOCIAL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E5A-054B-480B-BEFF-5A4EA5AAFE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Para conclui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l hecho de ser mujer genera discriminaciones en todas partes del mundo, debemos hacer un frente común para luchar contra esa desigualda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l cambio merecerá la pena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D3E-07F4-4772-8D76-8FF2E74E4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83664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Datos mujeres autócton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1773360"/>
            <a:ext cx="77043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De las mas de 820.000 personas paradas en Andalucía en septiembre de 2009, casi 420.000 son mujer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Sólo hay tres mujeres de cada diez hombres en puestos directivos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Del total de las solicitudes de reducción de jornada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, un 99,6% la hacen las mujeres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Las Mujeres españolas son las peor pagadas de Europa y son las que tienen más contratos temporales, las mujeres andaluzas, las peores pagadas de Españ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asi un 40% de las mujeres que dejaron su trabajo lo hizo debido al nacimiento de un hijo/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751-530C-4C2B-AD86-F9344DDC41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63640" y="83664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Datos mujeres inmigran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349360"/>
            <a:ext cx="7704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Del total de la inmigración en Andalucía, un 47% son mujer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Cada vez hay mas mujeres inmigrantes con un proyecto personal propi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cc"/>
                </a:solidFill>
                <a:latin typeface="Arial"/>
              </a:rPr>
              <a:t>Los sectores de actividad en los que más mujeres inmigrantes hay son: hostelería y turismo, agricultura y empleadas de hogar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cc"/>
                </a:solidFill>
                <a:latin typeface="Arial"/>
              </a:rPr>
              <a:t>La procedencia mas frecuente de las mujeres inmigrantes en nuestra comunidad autónoma es sudamérica y Marrueco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1F4-BE01-4808-9452-022DB99011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19280" y="476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333360"/>
            <a:ext cx="59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En el mercado de trabajo se producen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situaciones de desigualdad entre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hombres y muje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4191120"/>
            <a:ext cx="228600" cy="304560"/>
          </a:xfrm>
          <a:custGeom>
            <a:avLst/>
            <a:gdLst>
              <a:gd name="textAreaLeft" fmla="*/ 35640 w 228600"/>
              <a:gd name="textAreaRight" fmla="*/ 200160 w 2286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581280"/>
            <a:ext cx="228600" cy="304920"/>
          </a:xfrm>
          <a:custGeom>
            <a:avLst/>
            <a:gdLst>
              <a:gd name="textAreaLeft" fmla="*/ 35640 w 228600"/>
              <a:gd name="textAreaRight" fmla="*/ 200160 w 228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971800"/>
            <a:ext cx="228600" cy="304920"/>
          </a:xfrm>
          <a:custGeom>
            <a:avLst/>
            <a:gdLst>
              <a:gd name="textAreaLeft" fmla="*/ 35640 w 228600"/>
              <a:gd name="textAreaRight" fmla="*/ 200160 w 228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590920"/>
            <a:ext cx="0" cy="3276360"/>
          </a:xfrm>
          <a:prstGeom prst="line">
            <a:avLst/>
          </a:prstGeom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5053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Verdana"/>
              </a:rPr>
              <a:t>Segregación ocupac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286000"/>
            <a:ext cx="4876560" cy="3373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292929"/>
                </a:solidFill>
                <a:latin typeface="Verdana"/>
              </a:rPr>
              <a:t>SITUACIÓN LABORAL DE LAS MUJER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Verdana"/>
              </a:rPr>
              <a:t>Tasas de paro mayor que los hombr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1148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Verdana"/>
              </a:rPr>
              <a:t>Doble jornad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800600"/>
            <a:ext cx="228600" cy="304920"/>
          </a:xfrm>
          <a:custGeom>
            <a:avLst/>
            <a:gdLst>
              <a:gd name="textAreaLeft" fmla="*/ 35640 w 228600"/>
              <a:gd name="textAreaRight" fmla="*/ 200160 w 228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724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Verdana"/>
              </a:rPr>
              <a:t>Discriminación salari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410080"/>
            <a:ext cx="228600" cy="304920"/>
          </a:xfrm>
          <a:custGeom>
            <a:avLst/>
            <a:gdLst>
              <a:gd name="textAreaLeft" fmla="*/ 35640 w 228600"/>
              <a:gd name="textAreaRight" fmla="*/ 200160 w 228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334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292929"/>
                </a:solidFill>
                <a:latin typeface="Verdana"/>
              </a:rPr>
              <a:t>Acoso sexual y salud labor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E33-573E-4DBE-A5D3-CEDE2A0351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Mujeres inmigr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oble discriminación: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efecto multiplicador, están peor que las mujeres andaluzas y peor que los hombres inmigrante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ás segregación, menor salario, mas precariedad, población de riesgo a sufrir violencia en el lugar de trabajo, invisibilidad, aislamiento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019-7CE2-447F-A44E-70E5F9EE47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83664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La crisis desde la perspectiva del géner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584360"/>
            <a:ext cx="770436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Cuando la crisis afectó al sector de la construcción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or primera vez la tasa de paro masculina sobrepasa a la femenin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Cuando afecta al resto de sectore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La tasa de paro de mujeres sigue siendo mayor que la de hombres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(sobre todo en el sector servicio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Otros efectos de la crisis desde la perspectiva de género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Muchas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mujeres mayores se inscriben al INEM por primera vez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debido a la situación extrema de su economía famili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.R.E’s que encubren discriminaciones laborales por razón de sexo</a:t>
            </a:r>
            <a:r>
              <a:rPr b="0" lang="es-ES" sz="2000" spc="-1" strike="noStrike">
                <a:solidFill>
                  <a:srgbClr val="292929"/>
                </a:solidFill>
                <a:latin typeface="Arial"/>
              </a:rPr>
              <a:t> (despidos por embarazos, reducciones de jornadas, etc. a trabajadoras con más antigüedad, etc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227664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279-5113-49BE-955A-28248DA1E9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o cu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 crisis no ha afectado a las altas en el régimen de empleadas de hogar (las internas son mayoría mujeres inmigrantes, jóvenes con una buena formació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Las carencias de políticas de conciliación siguen manteniendo esta necesidad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80B-7B77-4574-B8D8-99F798432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76360" y="83664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La crisis desde la perspectiva del géner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59800">
            <a:off x="755280" y="24206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Son muchos los hogares que se sustentan únicamente con el salario de la mujer. La tasa de pobreza es superior a la media cuando la cabeza de familia es del sexo femenino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3933720"/>
            <a:ext cx="705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ntique Olive"/>
              </a:rPr>
              <a:t>La crisis ha puesto sobre la mesa que nuestro sistema está fallando, y que si lo queremos cambiar para mejor tenemos que reivindicar paridad y justicia, la crisis debe transformar la sociedad para mejor, por esto ahora es el momento para exigir igualdad para las mujeres, y exigir un empleo de calidad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0EF-4434-4114-BE41-D5FDCFDB34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Puntos en común: lo que nos beneficia a tod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a regulación de la ley de igualdad estatal y andaluza ha sido un avance importantísimo en materia de igualdad entre mujeres y hombr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GT Andalucía defiende su aplicación y la crisis no puede ni debe ser excusa para su incumplimient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CRETARÍA DE LA MUJER UGT ANDALUCÍ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B0C6-3D96-487B-8D9E-DA7C44EE31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7:59:38Z</dcterms:created>
  <dc:creator>VMartin</dc:creator>
  <dc:description/>
  <dc:language>en-US</dc:language>
  <cp:lastModifiedBy>VMartin</cp:lastModifiedBy>
  <dcterms:modified xsi:type="dcterms:W3CDTF">2009-10-29T18:26:10Z</dcterms:modified>
  <cp:revision>29</cp:revision>
  <dc:subject/>
  <dc:title>II PARTE CURSO  NEGOCIACIÓN COLECTIVA</dc:title>
</cp:coreProperties>
</file>