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2F7-1AF3-4825-B3EE-7696561E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897-38E9-43D0-80C3-FCC4F639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587D-A4F4-4012-BA2D-7E212529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A29B-E5C0-4EC4-B3DD-34E8EC9E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04D-BA85-4C5D-9E54-121B0EDF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C22-7F21-4527-B346-EA4FD91C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F14-8F90-4E76-B1BC-B3C9B2BE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42D-E268-42A4-9D09-74C371F9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80C-611E-476D-AB81-A20CCC55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94F-966F-4BA5-A532-6C79AF9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86C-AE9B-4F98-8E99-C218E18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292-570A-4F8D-943C-EDBADED8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156E-311D-485A-B3FD-77C1CBC1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5280" y="3789360"/>
            <a:ext cx="74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6640" y="422748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6160" y="3141720"/>
            <a:ext cx="394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Intervención CARITAS, mesa redo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836640"/>
            <a:ext cx="7417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No solemos encontrar recursos (humanos o materiales) pendientes del conjunto del camino. 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En cambio lo solemos dejar como si fuera el resultado de la suma de las metas parci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Normalmente son las personas que participan en los diferentes recursos existentes, quienes han de adaptar sus necesidades a la oferta que se plantea. Se suele hablar y hacer procesos individualizados pero siempre dentro del marco del objetivo o fase para la que el recurso sirve. Las exigencias ya vienen dadas con independencia de la situación de partida de la perso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Frente a las carencias, colocar en el centro las 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potencialidades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. Es mejor aquello que provoca más sinergia, aquello que 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hace aumentar las capacidades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76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Acompañar procesos de desarroll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341360"/>
            <a:ext cx="7704000" cy="37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Folio Light"/>
              </a:rPr>
              <a:t>Nuestra acción es esencialmente el acompañamiento de procesos integrales de desarrollo personalizado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0" i="1" lang="es-ES" sz="1900" spc="-1" strike="noStrike">
                <a:solidFill>
                  <a:srgbClr val="000000"/>
                </a:solidFill>
                <a:latin typeface="Folio Light"/>
              </a:rPr>
              <a:t>El acompañamiento</a:t>
            </a: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 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Integ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Inter – subjeti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asimétr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836640"/>
            <a:ext cx="74170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INTEGR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Acompañar no es una acción que pueda centrarse en elementos parciales, ha de procurar abarcar a la persona en su conjunto, todas sus dimensiones y en especial las relaciones entr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No confundir el concepto de integralidad con el de totalidad. No somos los únicos que nos relacionamos e influimos en la persona, ésta está en relación con otras personas, otros contextos y realidades con las que igualmente interactúa recogiendo y aportan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La integralidad en el acompañamiento tiene más que ver con la concepción sistémica, con la conciencia de que al tocar en un punto concreto, estamos modificando el conjunto y no tanto con la obsesión por abarcar to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836640"/>
            <a:ext cx="741708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INTER SU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Folio Light"/>
              </a:rPr>
              <a:t>Es algo de dos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, por ello no nos debe dar miedo incorporar la subjetividad en él. Las personas implicadas tienen cosas que decir, pueden poner sus límites, han de jugar con sus afectos y desafectos, encuentros y desencuenteros… Un/a acompañante no se puede impo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Folio Light"/>
              </a:rPr>
              <a:t>Requiere entrar en relación con los contextos de la persona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, que no están todos dentro de nuestra institución, de nuestros centros y servicios. Salir a la calle, la vida se convierte en exigencia de los procesos de acompañ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Folio Light"/>
              </a:rPr>
              <a:t> 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Folio Light"/>
              </a:rPr>
              <a:t>Nos exige esfuerzo de coordinación y de trabajo en red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con otros. En otras dinámicas es siempre aconsejable, en la del acompañamiento es indispens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04640"/>
            <a:ext cx="741672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ASIMET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Acompañar es reconocer al otro como sujeto, y entrar con el en una relación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Asimetría =/= dicot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odas las personas somos libres, y todas estamos condicio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odas las personas tenemos la aspiración de ser personas en sociedad y tenemos un proyect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odas las personas somos personas, no se es más persona que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LA POSICION DE “VENTAJ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Nos posibilita tomar la iniciativa, y no abandonar al otro sujeto a su suerte, sino ofrecerle los recursos necesarios para que adquiera un mayor y mejor conocimiento de sí mismo, que le permita llegar a una autonomía personal. Así nuestro hacer se convierte en un diálogo sobre el proyecto y el camino de cambio para amb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1268280"/>
            <a:ext cx="6912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Folio Light"/>
              </a:rPr>
              <a:t>3.-</a:t>
            </a:r>
            <a:r>
              <a:rPr b="1" lang="es-ES" sz="3600" spc="-1" strike="noStrike">
                <a:solidFill>
                  <a:srgbClr val="c00000"/>
                </a:solidFill>
                <a:latin typeface="Folio Light"/>
              </a:rPr>
              <a:t> 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¿INCORPORAN INICIATIVAS DIRIGIDAS ESPECIFICAMENTE A LAS </a:t>
            </a:r>
            <a:r>
              <a:rPr b="1" lang="es-ES" sz="4000" spc="-1" strike="noStrike">
                <a:solidFill>
                  <a:srgbClr val="c00000"/>
                </a:solidFill>
                <a:latin typeface="Folio Light"/>
              </a:rPr>
              <a:t>MUJERES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76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341360"/>
            <a:ext cx="770400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Entre un 70 y un 85% de las personas participantes en el Programa Diocesano de Empleo son mujer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Integración de la perspectiva de géne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Acciones específica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Preformación Laboral</a:t>
            </a: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s-ES" sz="24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Pretall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Trabajadoras del Hogar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Diagnóstico.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 Cáritas Regional de Andalucía “EL EMPLEO DE HOGAR EN ANDALUCÍA. ANALISIS DE LA SITUACIÓN Y PROPUESTAS DE ACCIÓ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EL EMPLEO EN EL HOGAR EN ANDALUCIA ES UN NICHO LABORAL FEMINIZADO CON FUERTE PRESENCIA DE INMIGR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4005360"/>
            <a:ext cx="1871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395280" y="3933720"/>
            <a:ext cx="1182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20640"/>
            <a:ext cx="75596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Folio Light"/>
              </a:rPr>
              <a:t>1.-</a:t>
            </a:r>
            <a:r>
              <a:rPr b="1" lang="es-ES" sz="3600" spc="-1" strike="noStrike">
                <a:solidFill>
                  <a:srgbClr val="c00000"/>
                </a:solidFill>
                <a:latin typeface="Folio Light"/>
              </a:rPr>
              <a:t> 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¿SON LOS </a:t>
            </a:r>
            <a:r>
              <a:rPr b="1" lang="es-ES" sz="4000" spc="-1" strike="noStrike">
                <a:solidFill>
                  <a:srgbClr val="c00000"/>
                </a:solidFill>
                <a:latin typeface="Folio Light"/>
              </a:rPr>
              <a:t>SERVICIOS INTEGRALES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 DIRIGIDOS AL  EMPLEO DE LAS </a:t>
            </a:r>
            <a:r>
              <a:rPr b="1" lang="es-ES" sz="4000" spc="-1" strike="noStrike">
                <a:solidFill>
                  <a:srgbClr val="c00000"/>
                </a:solidFill>
                <a:latin typeface="Folio Light"/>
              </a:rPr>
              <a:t>PERSONAS CON MAS DIFICULTAD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 UN INSTRUMENTO UTIL PARA LAS PERSONAS QUE PARTICIPAN EN ELL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76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… </a:t>
            </a: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LAS PERSONAS CON MAS DIFICULT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1844640"/>
            <a:ext cx="684036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 “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Las más alejadas del mercado laboral” (En jerga europ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 “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Las personas en situación de pobreza y exclusión soci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La exclusión social es más que la pobreza (falta de recursos económicos), es la dificultad o falta de acceso a una serie de derechos sociales básicos: educación, formación, empleo, salud, vivienda, participación social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SERVICIOS INTEGRA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280" y="126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INTEG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Desde Cáritas partim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Integralidad de la pers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Nos interesa el desarrollo humano en todas sus fac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Muchas veces el empleo no se consigue porque hay que dar respuesta (antes o a la vez) a otras situ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La persona desde sus potenci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360" y="1268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SERVICIOS INTEGRALES E INTE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INTEGRALES: abordan un amplio conjunto de necesidades de la persona, no solo una dimensión aislada (p.ej. La información o la form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lio Light"/>
              </a:rPr>
              <a:t>INTEGRADOS: la coordinación interna y ex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1484280"/>
            <a:ext cx="684036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Folio Light"/>
              </a:rPr>
              <a:t>SOLO UN ABORDAJE INTEGRAL TENDRÁ ÉXITO PARA LA INCLUSI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3200" spc="-1" strike="noStrike">
                <a:solidFill>
                  <a:srgbClr val="000000"/>
                </a:solidFill>
                <a:latin typeface="Folio Light"/>
              </a:rPr>
              <a:t>LA CLAVE… CORRESPONSABILIDAD Y COMPLEMENTAR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76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POR TA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628640"/>
            <a:ext cx="69120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Folio Light"/>
              </a:rPr>
              <a:t>2.-</a:t>
            </a:r>
            <a:r>
              <a:rPr b="1" lang="es-ES" sz="3600" spc="-1" strike="noStrike">
                <a:solidFill>
                  <a:srgbClr val="c00000"/>
                </a:solidFill>
                <a:latin typeface="Folio Light"/>
              </a:rPr>
              <a:t> 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¿QUE </a:t>
            </a:r>
            <a:r>
              <a:rPr b="1" lang="es-ES" sz="4000" spc="-1" strike="noStrike">
                <a:solidFill>
                  <a:srgbClr val="c00000"/>
                </a:solidFill>
                <a:latin typeface="Folio Light"/>
              </a:rPr>
              <a:t>INSTRUMENTOS DE PARTICIPACION</a:t>
            </a:r>
            <a:r>
              <a:rPr b="0" lang="es-ES" sz="4000" spc="-1" strike="noStrike">
                <a:solidFill>
                  <a:srgbClr val="c00000"/>
                </a:solidFill>
                <a:latin typeface="Folio Light"/>
              </a:rPr>
              <a:t> HAN INCORPORA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76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1844640"/>
            <a:ext cx="770400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Aunque el concepto de “participación” proviene de los años 60 (Pablo Freire, Ander Egg), es algo relativamente nuevo (esta década) en la práxis de la acción social de Españ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En estos momentos estamos en un proceso de reflexión – acción – evaluació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76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Folio Light"/>
              </a:rPr>
              <a:t>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341360"/>
            <a:ext cx="770400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Hemos incorporado la participación al </a:t>
            </a:r>
            <a:r>
              <a:rPr b="1" lang="es-ES" sz="1900" spc="-1" strike="noStrike" u="sng">
                <a:solidFill>
                  <a:srgbClr val="000000"/>
                </a:solidFill>
                <a:uFillTx/>
                <a:latin typeface="Folio Light"/>
              </a:rPr>
              <a:t>análisis de la realidad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“Diagnóstico de Oportunidades Laborales para personas de baja cualificación”: comunidad, empresas, instituciones, voluntariado, personas beneficiarias y destinatarias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  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Situamos a la </a:t>
            </a:r>
            <a:r>
              <a:rPr b="1" lang="es-ES" sz="1900" spc="-1" strike="noStrike" u="sng">
                <a:solidFill>
                  <a:srgbClr val="000000"/>
                </a:solidFill>
                <a:uFillTx/>
                <a:latin typeface="Folio Light"/>
              </a:rPr>
              <a:t>persona en el centro</a:t>
            </a:r>
            <a:r>
              <a:rPr b="1" lang="es-ES" sz="1900" spc="-1" strike="noStrike">
                <a:solidFill>
                  <a:srgbClr val="000000"/>
                </a:solidFill>
                <a:latin typeface="Folio Light"/>
              </a:rPr>
              <a:t>, la entendemos como participante de la acción y proponemos un método de trabajo que apuesta por los  PROCESOS DE DESARROLLO en clave de ACOMPAÑAMIENT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“</a:t>
            </a: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De los itinerarios a los procesos y de la inserción al desarrollo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“</a:t>
            </a: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Centralidad de la persona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“</a:t>
            </a:r>
            <a:r>
              <a:rPr b="1" i="1" lang="es-ES" sz="1900" spc="-1" strike="noStrike">
                <a:solidFill>
                  <a:srgbClr val="000000"/>
                </a:solidFill>
                <a:latin typeface="Folio Light"/>
              </a:rPr>
              <a:t>Frente a las carencias, colocar en el centro las potencialidad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620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101080" y="189000"/>
            <a:ext cx="765000" cy="792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692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836640"/>
            <a:ext cx="7417080" cy="62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Tenemos claro que la apuesta pasa por trazar procesos en los que la persona, cada persona pase a ser el elemento central,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sabiendo que se trata de “largos y complejos caminos” y que la medida del tiempo y de los objetivos es distinta en cada persona. Nos encontramos con historias rotas, que te plantean objetivos concretos de recomposición de las rup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Así, de lo que se </a:t>
            </a:r>
            <a:r>
              <a:rPr b="1" lang="es-ES" sz="1800" spc="-1" strike="noStrike">
                <a:solidFill>
                  <a:srgbClr val="000000"/>
                </a:solidFill>
                <a:latin typeface="Folio Light"/>
              </a:rPr>
              <a:t>trata es de poner los medios para que la persona alcance el mayor grado de autonomía posible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. Esto nos sitúa en la reflexión de los gerundios, pues no es ya una cuestión de conseguir un logro, o una determinada meta, sino de seguir caminando, de hacer proceso.  Situarnos desde aquí nos plantea dos re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olio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Frente a la linealidad de los itinerarios, la espiralidad de l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olio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Frente al factor cuantitativo predominante de la inserción, el factor cualitativo, la cualidad del desar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olio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Cáritas</cp:lastModifiedBy>
  <dcterms:modified xsi:type="dcterms:W3CDTF">2009-10-29T18:55:56Z</dcterms:modified>
  <cp:revision>107</cp:revision>
  <dc:subject/>
  <dc:title>Presentación de PowerPoint</dc:title>
</cp:coreProperties>
</file>