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20A8-8B77-4FDD-9E30-F3B567262A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057-20E5-4339-99E6-5926A431CB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400-5941-4CDB-A40C-EE0530A491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CD5-DC06-4E05-818C-5E56FBC6CB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6298-DD75-406F-922B-B794294175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B695-B5D1-44A6-BA71-F2E1158EC9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77EB-A77D-4BD9-91E8-94564BD08B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28A-B603-4AB2-9162-CC6E76C110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88F-2C84-4DD5-83D6-D45652DFED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92C-60D6-44AB-97AC-26A2C82F8D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4B7B-3569-42BD-86A8-3EA4DD084C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745-FB01-43FE-8C98-95D7B1EFDDF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966B-02B3-4E31-82FE-C30F1C2468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54F2-061A-44CE-88AD-9E61B6971B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A69-648F-4153-A6C0-972FADCCD7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F3E3-B96B-4078-ABDF-C592BF02FD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53F-1374-4745-B1B4-1BDFCAC6065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232D-A8D3-47FF-A9E3-8BA1675B93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A70A-AC71-42FD-8417-C8533A836A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756320"/>
            <a:ext cx="50292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AFD-8006-4564-8CEB-A9E577C5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11C-049F-43AD-A860-31F8014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165-E965-4559-A5BD-6571670A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8A7-51F3-4763-8CFB-9EBFCEB8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301B-0A6D-4506-991A-840E321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2D24-2374-4155-9150-76EEA51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630-5CCE-46EA-92F0-4AAF4E7F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22F-2CAE-42D1-8079-C2EAF5B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7B4-F75E-472F-8658-3AD66563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341-7085-46D2-9AD1-6E2A9B3F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832-AFC9-4C8D-8198-03FCFC78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1070-8F96-4B87-B83A-64BB745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FE56-5CF4-48A3-8A84-86D2A0437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3" descr="13 banda grafismos"/>
          <p:cNvPicPr/>
          <p:nvPr/>
        </p:nvPicPr>
        <p:blipFill>
          <a:blip r:embed="rId1"/>
          <a:stretch/>
        </p:blipFill>
        <p:spPr>
          <a:xfrm>
            <a:off x="2484360" y="260280"/>
            <a:ext cx="4470480" cy="3975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0"/>
          <p:cNvSpPr/>
          <p:nvPr/>
        </p:nvSpPr>
        <p:spPr>
          <a:xfrm>
            <a:off x="428760" y="3071880"/>
            <a:ext cx="74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Rockwell Condensed"/>
              </a:rPr>
              <a:t>Construyendo oportunidades para el empleo</a:t>
            </a:r>
            <a:endParaRPr b="0" lang="en-US" sz="3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1" name="Text Box 31"/>
          <p:cNvSpPr/>
          <p:nvPr/>
        </p:nvSpPr>
        <p:spPr>
          <a:xfrm>
            <a:off x="3924360" y="25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2" name="Picture 34" descr="Captura1"/>
          <p:cNvPicPr/>
          <p:nvPr/>
        </p:nvPicPr>
        <p:blipFill>
          <a:blip r:embed="rId3"/>
          <a:stretch/>
        </p:blipFill>
        <p:spPr>
          <a:xfrm>
            <a:off x="468360" y="5041800"/>
            <a:ext cx="2016000" cy="619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5"/>
          <p:cNvSpPr/>
          <p:nvPr/>
        </p:nvSpPr>
        <p:spPr>
          <a:xfrm>
            <a:off x="296640" y="4227480"/>
            <a:ext cx="56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Talleres de sensibilización de mujeres inmigrante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para combatir la discriminiz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54" name="Text Box 36"/>
          <p:cNvSpPr/>
          <p:nvPr/>
        </p:nvSpPr>
        <p:spPr>
          <a:xfrm>
            <a:off x="392760" y="2428920"/>
            <a:ext cx="305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Programa de actividades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Folio Light"/>
              </a:rPr>
              <a:t>Cádiz, Viernes 30 de Octubre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fondillo"/>
          <p:cNvPicPr/>
          <p:nvPr/>
        </p:nvPicPr>
        <p:blipFill>
          <a:blip r:embed="rId1"/>
          <a:stretch/>
        </p:blipFill>
        <p:spPr>
          <a:xfrm>
            <a:off x="642960" y="304920"/>
            <a:ext cx="7643880" cy="6553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73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73200" y="836640"/>
            <a:ext cx="35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COLECTIVOS DESTINATARIOS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258920" y="2060640"/>
            <a:ext cx="626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Mujer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Jóven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Inmigrantes y minorías étnica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Personas con capacidades diferent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Parados de larga duración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Población en riesgo de exclusión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79280" y="1413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0000"/>
                </a:solidFill>
                <a:latin typeface="News Gothic MT"/>
              </a:rPr>
              <a:t>(Según VI Acuerdo de Concertación Social para Andalucía y Asociación de Lisboa para el Crecimiento y el Empleo</a:t>
            </a:r>
            <a:r>
              <a:rPr b="0" lang="es-ES_tradnl" sz="1800" spc="-1" strike="noStrike">
                <a:solidFill>
                  <a:srgbClr val="800000"/>
                </a:solidFill>
                <a:latin typeface="Folio Ligh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ondillo"/>
          <p:cNvPicPr/>
          <p:nvPr/>
        </p:nvPicPr>
        <p:blipFill>
          <a:blip r:embed="rId1"/>
          <a:stretch/>
        </p:blipFill>
        <p:spPr>
          <a:xfrm>
            <a:off x="642960" y="304920"/>
            <a:ext cx="7643880" cy="6553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79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676080" y="62064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METODOLOGÍA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34960" y="1268280"/>
            <a:ext cx="1732320" cy="368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News Gothic MT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65920" y="2060640"/>
            <a:ext cx="1648440" cy="368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News Gothic MT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500120" y="2781360"/>
            <a:ext cx="1654560" cy="368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News Gothic MT"/>
              </a:rPr>
              <a:t>Interven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427640" y="4437000"/>
            <a:ext cx="41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News Gothic MT"/>
              </a:rPr>
              <a:t>((Activación y Dinamización población desempleada + Motivación</a:t>
            </a:r>
            <a:r>
              <a:rPr b="0" lang="es-ES" sz="1600" spc="-1" strike="noStrike">
                <a:solidFill>
                  <a:srgbClr val="000000"/>
                </a:solidFill>
                <a:latin typeface="News Gothic MT"/>
              </a:rPr>
              <a:t>=</a:t>
            </a:r>
            <a:r>
              <a:rPr b="1" lang="es-ES" sz="1600" spc="-1" strike="noStrike">
                <a:solidFill>
                  <a:srgbClr val="336600"/>
                </a:solidFill>
                <a:latin typeface="News Gothic MT"/>
              </a:rPr>
              <a:t>Aumento Empleabilidad))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195640" y="242100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492360" y="1413000"/>
            <a:ext cx="0" cy="792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26920" y="3860640"/>
            <a:ext cx="2953080" cy="1692000"/>
          </a:xfrm>
          <a:prstGeom prst="rect">
            <a:avLst/>
          </a:prstGeom>
          <a:solidFill>
            <a:srgbClr val="ff9900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         </a:t>
            </a: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         </a:t>
            </a: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Asesoramiento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         </a:t>
            </a: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         </a:t>
            </a:r>
            <a:r>
              <a:rPr b="1" lang="es-ES" sz="1600" spc="-1" strike="noStrike">
                <a:solidFill>
                  <a:srgbClr val="ffffff"/>
                </a:solidFill>
                <a:latin typeface="News Gothic MT"/>
              </a:rPr>
              <a:t>Deriv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2195640" y="162864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89" name="AutoShape 13"/>
          <p:cNvSpPr/>
          <p:nvPr/>
        </p:nvSpPr>
        <p:spPr>
          <a:xfrm>
            <a:off x="2413080" y="1773360"/>
            <a:ext cx="863640" cy="71280"/>
          </a:xfrm>
          <a:prstGeom prst="rightArrow">
            <a:avLst>
              <a:gd name="adj1" fmla="val 50000"/>
              <a:gd name="adj2" fmla="val 3029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0" name="AutoShape 14"/>
          <p:cNvSpPr/>
          <p:nvPr/>
        </p:nvSpPr>
        <p:spPr>
          <a:xfrm>
            <a:off x="2411280" y="2565360"/>
            <a:ext cx="863640" cy="71640"/>
          </a:xfrm>
          <a:prstGeom prst="rightArrow">
            <a:avLst>
              <a:gd name="adj1" fmla="val 50000"/>
              <a:gd name="adj2" fmla="val 30138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492360" y="242100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2" name="AutoShape 16"/>
          <p:cNvSpPr/>
          <p:nvPr/>
        </p:nvSpPr>
        <p:spPr>
          <a:xfrm>
            <a:off x="2195640" y="314172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3492360" y="3213000"/>
            <a:ext cx="0" cy="3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2411280" y="3357720"/>
            <a:ext cx="863640" cy="71280"/>
          </a:xfrm>
          <a:prstGeom prst="rightArrow">
            <a:avLst>
              <a:gd name="adj1" fmla="val 50000"/>
              <a:gd name="adj2" fmla="val 3029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3708360" y="1413000"/>
            <a:ext cx="3313080" cy="8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6" name="AutoShape 20"/>
          <p:cNvSpPr/>
          <p:nvPr/>
        </p:nvSpPr>
        <p:spPr>
          <a:xfrm>
            <a:off x="3708360" y="2421000"/>
            <a:ext cx="30970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97" name="AutoShape 21"/>
          <p:cNvSpPr/>
          <p:nvPr/>
        </p:nvSpPr>
        <p:spPr>
          <a:xfrm>
            <a:off x="3708360" y="3213000"/>
            <a:ext cx="29527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98" name="Picture 22" descr=""/>
          <p:cNvPicPr/>
          <p:nvPr/>
        </p:nvPicPr>
        <p:blipFill>
          <a:blip r:embed="rId3"/>
          <a:stretch/>
        </p:blipFill>
        <p:spPr>
          <a:xfrm>
            <a:off x="7093080" y="1052640"/>
            <a:ext cx="185400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3" descr=""/>
          <p:cNvPicPr/>
          <p:nvPr/>
        </p:nvPicPr>
        <p:blipFill>
          <a:blip r:embed="rId4"/>
          <a:stretch/>
        </p:blipFill>
        <p:spPr>
          <a:xfrm>
            <a:off x="6588000" y="2565360"/>
            <a:ext cx="1901880" cy="19432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4"/>
          <p:cNvSpPr/>
          <p:nvPr/>
        </p:nvSpPr>
        <p:spPr>
          <a:xfrm>
            <a:off x="3978000" y="1413000"/>
            <a:ext cx="301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00"/>
                </a:solidFill>
                <a:latin typeface="News Gothic MT"/>
              </a:rPr>
              <a:t>Análisis de los barrios. 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00"/>
                </a:solidFill>
                <a:latin typeface="News Gothic MT"/>
              </a:rPr>
              <a:t>Diagnóstico necesidades de las zonas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00"/>
                </a:solidFill>
                <a:latin typeface="News Gothic MT"/>
              </a:rPr>
              <a:t>Detección demandas y necesidades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039200" y="249228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00"/>
                </a:solidFill>
                <a:latin typeface="News Gothic MT"/>
              </a:rPr>
              <a:t>Diseño plan acción adaptado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3995640" y="3225960"/>
            <a:ext cx="35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800000"/>
                </a:solidFill>
                <a:latin typeface="News Gothic MT"/>
              </a:rPr>
              <a:t>Coordinación dispositivos SAE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fondillo"/>
          <p:cNvPicPr/>
          <p:nvPr/>
        </p:nvPicPr>
        <p:blipFill>
          <a:blip r:embed="rId1"/>
          <a:stretch/>
        </p:blipFill>
        <p:spPr>
          <a:xfrm>
            <a:off x="642960" y="304920"/>
            <a:ext cx="7643880" cy="655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054800" y="42372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PRINCIPALES ACCIONES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214720" y="1143000"/>
            <a:ext cx="467964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Reunione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Entrevista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Grupos de discus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Charla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Tallere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Foros de Emple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Puntos de cercanía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Visitas organizad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Presencia en medios de comunic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Acompañamient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Derivacione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07" name="Line 6"/>
          <p:cNvSpPr/>
          <p:nvPr/>
        </p:nvSpPr>
        <p:spPr>
          <a:xfrm flipH="1">
            <a:off x="1907640" y="1071720"/>
            <a:ext cx="19080" cy="4805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ondillo"/>
          <p:cNvPicPr/>
          <p:nvPr/>
        </p:nvPicPr>
        <p:blipFill>
          <a:blip r:embed="rId1"/>
          <a:stretch/>
        </p:blipFill>
        <p:spPr>
          <a:xfrm>
            <a:off x="539640" y="304920"/>
            <a:ext cx="7643880" cy="6553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969840" y="170028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News Gothic MT"/>
              </a:rPr>
              <a:t>Ofrecen a la ciudadanía:</a:t>
            </a:r>
            <a:endParaRPr b="0" lang="en-US" sz="20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340000" y="2565360"/>
            <a:ext cx="54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Información y Asesoramiento inicial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Atención personalizada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Tutorización constante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Derivación a dispositivos especializado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Acompañamient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1619280" y="2421000"/>
            <a:ext cx="0" cy="23032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2050920" y="2637000"/>
            <a:ext cx="216000" cy="215640"/>
          </a:xfrm>
          <a:prstGeom prst="rightArrow">
            <a:avLst>
              <a:gd name="adj1" fmla="val 50000"/>
              <a:gd name="adj2" fmla="val 25042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2050920" y="306864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050920" y="350028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2050920" y="386064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2050920" y="429264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20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"/>
          <p:cNvSpPr/>
          <p:nvPr/>
        </p:nvSpPr>
        <p:spPr>
          <a:xfrm>
            <a:off x="900000" y="8938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Programa Unidades de Barri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1768320"/>
            <a:ext cx="460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Captar la población no activa para su acercamiento a los recursos y dispositivos del Servicio Andaluz de Empleo, mediante el desarrollo de acciones de información y asesoramiento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857840" y="857160"/>
            <a:ext cx="42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Folio Light"/>
              </a:rPr>
              <a:t>… </a:t>
            </a:r>
            <a:r>
              <a:rPr b="1" lang="es-ES" sz="1800" spc="-1" strike="noStrike">
                <a:solidFill>
                  <a:srgbClr val="000000"/>
                </a:solidFill>
                <a:latin typeface="News Gothic MT"/>
              </a:rPr>
              <a:t>dinamizan la demanda de emple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292720" y="3714840"/>
            <a:ext cx="385128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Optimización recursos de emple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Dinamización del tejido asociativ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Trabajo en re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ticipación de las personas desempleada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Descentralización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773640" y="3330720"/>
            <a:ext cx="601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Un método abierto, adaptado al territorio y transparente que supone: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5219640" y="3789360"/>
            <a:ext cx="0" cy="1224000"/>
          </a:xfrm>
          <a:prstGeom prst="line">
            <a:avLst/>
          </a:prstGeom>
          <a:ln cap="rnd" w="3816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796000" y="1773360"/>
            <a:ext cx="3024000" cy="955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News Gothic MT"/>
              </a:rPr>
              <a:t>Incorporación de la ciudadaní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News Gothic MT"/>
              </a:rPr>
              <a:t>Cercaní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News Gothic MT"/>
              </a:rPr>
              <a:t>Adaptación constante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3"/>
          <a:stretch/>
        </p:blipFill>
        <p:spPr>
          <a:xfrm>
            <a:off x="1187280" y="5013360"/>
            <a:ext cx="3780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ondillo"/>
          <p:cNvPicPr/>
          <p:nvPr/>
        </p:nvPicPr>
        <p:blipFill>
          <a:blip r:embed="rId1"/>
          <a:stretch/>
        </p:blipFill>
        <p:spPr>
          <a:xfrm>
            <a:off x="539640" y="304920"/>
            <a:ext cx="7991640" cy="6553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31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116000" y="836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684360" y="549360"/>
            <a:ext cx="784836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Unidad de Barrio de Cádiz en colaboración con el programa Operativo Plurirregional Red Inter-labor@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Dirigido a :</a:t>
            </a: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Mujeres en riesgo de exclusión social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Actividades realizadas durante el periodo 2006-2008: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Sesiones informativas sobre dispositivos SAE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Talleres de nuevas tecnologías del SAE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Visitas a: oficinas de empleo y Centro de Referencia de Andalucía Orient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Derivaciones y acompañamiento a los diferentes dispositivos de empleo: oficinas SAE y Unidades de Orientación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Atención individualizada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36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71640" y="56844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55640" y="549360"/>
            <a:ext cx="79200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¿Por qué Unidades de Barrio?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-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orque existe un interés real por conocer la problemática actual de la ciudadanía, para así implementar políticas adaptadas a las mismas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- Porque acercan la Administración  a la ciudadanía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orque obtiene información actualizada gracias a la intervención en los propios barrios o ámbitos locales, permitiendo adecuar así las actuaciones en función de las nuevas casuíticas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-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 Porque la metodología empleada mejora sustancial y cualitativamente los procesos de ajuste a corto y medio plazo entre la oferta y la demanda de trabaj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-  Porque es una apuesta por la excelencia, por la innovación en los procesos de intermediación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orque es un buen sistema de intermediación entre la oferta y la demand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41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9640" y="260280"/>
            <a:ext cx="799308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¿Para qué Unidades de Barrio?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-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Para dotar de una mayor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transparencia al mercado laboral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, mediante la incorporación de mecanismos guiados por unos principios comunes de actuación, tales como los de integración, compatibilidad y coordinación de los sistemas de información, además de la igualdad de oportunidades real y efectiva entre hombres y mujeres en todo el territorio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a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ofrecer a la población toda la gama de recursos y dispositivos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que en materia de empleo y formación pone a disposición la Junta de Andalucí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a imprimir una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actitud pro-activa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a la ciudadanía de forma que la persona sea autónoma ante la búsqueda activa de emple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a garantizar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igualdad de oportunidades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ante el empleo entre hombres y mujeres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buClr>
                <a:srgbClr val="000000"/>
              </a:buClr>
              <a:buFont typeface="Folio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a apoyar la mejora de la empleabilidad de la ciudadanía, fomentando la cohesión social y territorial.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Para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captar a la población no activa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para su acercamiento a los recursos y dispositivos del Servicio Andaluz de Empleo</a:t>
            </a:r>
            <a:r>
              <a:rPr b="0" lang="es-ES" sz="1800" spc="-1" strike="noStrike">
                <a:solidFill>
                  <a:srgbClr val="000000"/>
                </a:solidFill>
                <a:latin typeface="Foli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-Para fomentar la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integración social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de las personas más desfavorecidas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83808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 BoldCondensed"/>
              </a:rPr>
              <a:t>Titular de portada</a:t>
            </a:r>
            <a:endParaRPr b="0" lang="en-US" sz="4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992880" y="2438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52280" y="6248520"/>
            <a:ext cx="883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0c1c"/>
                </a:solidFill>
                <a:latin typeface="Arial"/>
              </a:rPr>
              <a:t>Humanidad      Imparcialidad      Neutralidad      Independencia      Voluntariado      Unidad      Univers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0" y="59436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www.cruzroja.es     902 22 22 92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324000" y="1557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Financiado por: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olio Light"/>
              </a:rPr>
              <a:t>Colabor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248" name="Picture 12" descr=""/>
          <p:cNvPicPr/>
          <p:nvPr/>
        </p:nvPicPr>
        <p:blipFill>
          <a:blip r:embed="rId1"/>
          <a:stretch/>
        </p:blipFill>
        <p:spPr>
          <a:xfrm>
            <a:off x="2987640" y="5013360"/>
            <a:ext cx="3200400" cy="825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Logo FSE II Periodo PO"/>
          <p:cNvPicPr/>
          <p:nvPr/>
        </p:nvPicPr>
        <p:blipFill>
          <a:blip r:embed="rId2"/>
          <a:stretch/>
        </p:blipFill>
        <p:spPr>
          <a:xfrm>
            <a:off x="3780000" y="2060640"/>
            <a:ext cx="237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8" descr="logo empleo"/>
          <p:cNvPicPr/>
          <p:nvPr/>
        </p:nvPicPr>
        <p:blipFill>
          <a:blip r:embed="rId3"/>
          <a:stretch/>
        </p:blipFill>
        <p:spPr>
          <a:xfrm>
            <a:off x="2916360" y="333360"/>
            <a:ext cx="3095640" cy="1025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1" descr="Captura"/>
          <p:cNvPicPr/>
          <p:nvPr/>
        </p:nvPicPr>
        <p:blipFill>
          <a:blip r:embed="rId4"/>
          <a:stretch/>
        </p:blipFill>
        <p:spPr>
          <a:xfrm>
            <a:off x="250920" y="2133720"/>
            <a:ext cx="2570040" cy="726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"/>
          <p:cNvPicPr/>
          <p:nvPr/>
        </p:nvPicPr>
        <p:blipFill>
          <a:blip r:embed="rId5"/>
          <a:stretch/>
        </p:blipFill>
        <p:spPr>
          <a:xfrm>
            <a:off x="6443640" y="2205000"/>
            <a:ext cx="2289240" cy="6494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4"/>
          <p:cNvSpPr/>
          <p:nvPr/>
        </p:nvSpPr>
        <p:spPr>
          <a:xfrm>
            <a:off x="250920" y="3429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Folio Light"/>
              </a:rPr>
              <a:t>Participa:</a:t>
            </a: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254" name="Text Box 29"/>
          <p:cNvSpPr/>
          <p:nvPr/>
        </p:nvSpPr>
        <p:spPr>
          <a:xfrm>
            <a:off x="324000" y="2997360"/>
            <a:ext cx="77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Folio Light"/>
              </a:rPr>
              <a:t>Programa Operativo Plurirregional Lucha contra la Discriminación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ondillo"/>
          <p:cNvPicPr/>
          <p:nvPr/>
        </p:nvPicPr>
        <p:blipFill>
          <a:blip r:embed="rId1"/>
          <a:stretch/>
        </p:blipFill>
        <p:spPr>
          <a:xfrm>
            <a:off x="684360" y="189000"/>
            <a:ext cx="7272360" cy="655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57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9"/>
          <p:cNvSpPr/>
          <p:nvPr/>
        </p:nvSpPr>
        <p:spPr>
          <a:xfrm>
            <a:off x="928800" y="642960"/>
            <a:ext cx="71946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9b3242"/>
                </a:solidFill>
                <a:uFillTx/>
                <a:latin typeface="News Gothic MT"/>
              </a:rPr>
              <a:t>PRESENT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La Fundación Andaluza Fondo de Formación y Empleo es una fundación del sector público, sin ánimo de lucro, adscrita a la Consejería de Empleo de la Junta de Andalucía (2003) como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instrumento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de ámbito regional dedicado al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fomento y promoción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de los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sectores productivos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del territorio andaluz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b3242"/>
                </a:solidFill>
                <a:latin typeface="News Gothic MT"/>
              </a:rPr>
              <a:t>FINALIDAD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News Gothic MT"/>
              </a:rPr>
              <a:t>Impulsar y dinamizar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el tejido productivo andaluz: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Fomentando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y promocionando el sector industrial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local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News Gothic MT"/>
              </a:rPr>
              <a:t>Cualificando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profesionalmente los 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News Gothic MT"/>
              </a:rPr>
              <a:t>Desarrollando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programas de fomento del 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emple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Prestando </a:t>
            </a:r>
            <a:r>
              <a:rPr b="1" lang="es-ES_tradnl" sz="1400" spc="-1" strike="noStrike">
                <a:solidFill>
                  <a:srgbClr val="000000"/>
                </a:solidFill>
                <a:latin typeface="News Gothic MT"/>
              </a:rPr>
              <a:t>asistencia técnica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 en materia de </a:t>
            </a:r>
            <a:r>
              <a:rPr b="0" lang="es-ES_tradnl" sz="1400" spc="-1" strike="noStrike">
                <a:solidFill>
                  <a:srgbClr val="000000"/>
                </a:solidFill>
                <a:latin typeface="News Gothic MT"/>
              </a:rPr>
              <a:t>formación e inserción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61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755640" y="836640"/>
            <a:ext cx="73454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b3242"/>
                </a:solidFill>
                <a:latin typeface="News Gothic MT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fafb7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Formación Profesional para el Emple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Diseño e implementación de programas especiales y estudios e investigaciones de formación, empleo y desarrollo local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Diseño y elaboración de materiales didáctico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fafb7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Asistencia técnica a empresas. Consultorí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Organización y gestión de foros, encuentros, jornadas y seminario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b3242"/>
                </a:solidFill>
                <a:latin typeface="News Gothic MT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fafb7"/>
                </a:solidFill>
                <a:latin typeface="News Gothic MT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Se desarrolla una serie de programas específicos gratuitos cuya finalidad es dotar a los colectivos participantes de herramientas, medios y recursos para mejorar sus posibilidades de inserción en el mercado de trabajo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5"/>
          <p:cNvGraphicFramePr/>
          <p:nvPr/>
        </p:nvGraphicFramePr>
        <p:xfrm>
          <a:off x="1571760" y="714240"/>
          <a:ext cx="6337080" cy="13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714240"/>
                    <a:ext cx="633708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6"/>
          <p:cNvGraphicFramePr/>
          <p:nvPr/>
        </p:nvGraphicFramePr>
        <p:xfrm>
          <a:off x="4257720" y="2131920"/>
          <a:ext cx="4390920" cy="275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2131920"/>
                    <a:ext cx="439092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19"/>
          <p:cNvSpPr/>
          <p:nvPr/>
        </p:nvSpPr>
        <p:spPr>
          <a:xfrm>
            <a:off x="1143000" y="2357280"/>
            <a:ext cx="3600360" cy="37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c00000"/>
                </a:solidFill>
                <a:uFillTx/>
                <a:latin typeface="News Gothic MT"/>
              </a:rPr>
              <a:t>1 0 0 %   d e l   t e r r i t o r i o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Dirección General Técnica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8 Gerencias Provinciale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Red 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de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 51 centros 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de acuerdo a la diversidad geográfica y socioeconómica de nuestra comunidad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c00000"/>
                </a:solidFill>
                <a:uFillTx/>
                <a:latin typeface="News Gothic MT"/>
              </a:rPr>
              <a:t>Gerencia Provincial de Cádiz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C/. Antonio López, 4 – 2ª Planta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Cádiz 11004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Tel.: 956 29 22 21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3571920" y="164304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www.faffe.es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ondillo"/>
          <p:cNvPicPr/>
          <p:nvPr/>
        </p:nvPicPr>
        <p:blipFill>
          <a:blip r:embed="rId1"/>
          <a:stretch/>
        </p:blipFill>
        <p:spPr>
          <a:xfrm>
            <a:off x="114300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2143080" y="15717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73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071720" y="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PROGRAMAS ESPECIFICO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1019160" y="779400"/>
            <a:ext cx="7461360" cy="36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Como entidad adscrita a la Consejería de Empleo, desarrolla y gestiona en el territorio, sobre criterios de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agilidad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,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calidad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 y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eficacia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, diversos programas de la Consejería y del Servicio Andaluz de Empleo para la mejora conjunta o específica de las posibilidades de </a:t>
            </a: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inserción</a:t>
            </a: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CUALIFICA</a:t>
            </a:r>
            <a:endParaRPr b="0" lang="en-US" sz="13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Acciones Experimentales</a:t>
            </a:r>
            <a:endParaRPr b="0" lang="en-US" sz="13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Programa de Incorporación Laboral para Personal Militar </a:t>
            </a: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(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PILM</a:t>
            </a: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Programa intervención y formación dirigido a jóvenes (PIFJ)</a:t>
            </a:r>
            <a:endParaRPr b="0" lang="en-US" sz="13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Experiencias profesionales para el empleo (EPES)</a:t>
            </a:r>
            <a:endParaRPr b="0" lang="en-US" sz="13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Programas de intermediación, orientación </a:t>
            </a: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&gt;&gt;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ANDALUCIA ORIENTA (Centros de referencia y unidades de orientación)</a:t>
            </a:r>
            <a:endParaRPr b="0" lang="en-US" sz="11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AGENTES DE INTERMEDIACIÓN LABORAL</a:t>
            </a:r>
            <a:endParaRPr b="0" lang="en-US" sz="11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                                                 </a:t>
            </a:r>
            <a:r>
              <a:rPr b="1" lang="es-ES" sz="1100" spc="-1" strike="noStrike">
                <a:solidFill>
                  <a:srgbClr val="000000"/>
                </a:solidFill>
                <a:latin typeface="News Gothic MT"/>
              </a:rPr>
              <a:t>UNIDADES DE BARRIO</a:t>
            </a:r>
            <a:endParaRPr b="0" lang="en-US" sz="11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14240"/>
                <a:tab algn="l" pos="2152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285920" y="4714920"/>
            <a:ext cx="6696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1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ews Gothic MT"/>
              </a:rPr>
              <a:t>Trabajadores y trabajadoras de todos los niveles organizativos: 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Mujeres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Colectivos vulnerables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Jóvenes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Personas en desempleo de 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larga o muy larga duración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10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Personas discapacitadas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News Gothic MT"/>
              </a:rPr>
              <a:t>Población desempleada</a:t>
            </a:r>
            <a:r>
              <a:rPr b="0" lang="es-ES" sz="1200" spc="-1" strike="noStrike">
                <a:solidFill>
                  <a:srgbClr val="000000"/>
                </a:solidFill>
                <a:latin typeface="News Gothic MT"/>
              </a:rPr>
              <a:t> en general</a:t>
            </a:r>
            <a:endParaRPr b="0" lang="en-US" sz="12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1214280" y="435780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9b3242"/>
                </a:solidFill>
                <a:latin typeface="News Gothic MT"/>
              </a:rPr>
              <a:t>COLECTIVOS de actuación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ondillo"/>
          <p:cNvPicPr/>
          <p:nvPr/>
        </p:nvPicPr>
        <p:blipFill>
          <a:blip r:embed="rId1"/>
          <a:stretch/>
        </p:blipFill>
        <p:spPr>
          <a:xfrm>
            <a:off x="1403280" y="189000"/>
            <a:ext cx="6553440" cy="6553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80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2857680" y="928800"/>
            <a:ext cx="1728720" cy="1370160"/>
            <a:chOff x="2857680" y="928800"/>
            <a:chExt cx="1728720" cy="1370160"/>
          </a:xfrm>
        </p:grpSpPr>
        <p:pic>
          <p:nvPicPr>
            <p:cNvPr id="82" name="Picture 5" descr="j0438550"/>
            <p:cNvPicPr/>
            <p:nvPr/>
          </p:nvPicPr>
          <p:blipFill>
            <a:blip r:embed="rId3"/>
            <a:stretch/>
          </p:blipFill>
          <p:spPr>
            <a:xfrm>
              <a:off x="2857680" y="928800"/>
              <a:ext cx="17287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3360600" y="2052720"/>
              <a:ext cx="95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News Gothic MT"/>
                </a:rPr>
                <a:t>Oficinas SAE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84" name="Group 7"/>
          <p:cNvGrpSpPr/>
          <p:nvPr/>
        </p:nvGrpSpPr>
        <p:grpSpPr>
          <a:xfrm>
            <a:off x="696960" y="928800"/>
            <a:ext cx="1323720" cy="1514520"/>
            <a:chOff x="696960" y="928800"/>
            <a:chExt cx="1323720" cy="1514520"/>
          </a:xfrm>
        </p:grpSpPr>
        <p:pic>
          <p:nvPicPr>
            <p:cNvPr id="85" name="Picture 8" descr="j0437729"/>
            <p:cNvPicPr/>
            <p:nvPr/>
          </p:nvPicPr>
          <p:blipFill>
            <a:blip r:embed="rId4"/>
            <a:stretch/>
          </p:blipFill>
          <p:spPr>
            <a:xfrm>
              <a:off x="696960" y="928800"/>
              <a:ext cx="1323720" cy="13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696960" y="2197080"/>
              <a:ext cx="129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0000"/>
                  </a:solidFill>
                  <a:latin typeface="News Gothic MT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87" name="Group 10"/>
          <p:cNvGrpSpPr/>
          <p:nvPr/>
        </p:nvGrpSpPr>
        <p:grpSpPr>
          <a:xfrm>
            <a:off x="2352600" y="3160800"/>
            <a:ext cx="1295280" cy="1415880"/>
            <a:chOff x="2352600" y="3160800"/>
            <a:chExt cx="1295280" cy="1415880"/>
          </a:xfrm>
        </p:grpSpPr>
        <p:pic>
          <p:nvPicPr>
            <p:cNvPr id="88" name="Picture 11" descr="j0437737"/>
            <p:cNvPicPr/>
            <p:nvPr/>
          </p:nvPicPr>
          <p:blipFill>
            <a:blip r:embed="rId5"/>
            <a:stretch/>
          </p:blipFill>
          <p:spPr>
            <a:xfrm>
              <a:off x="2496960" y="3160800"/>
              <a:ext cx="9367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2352600" y="4025880"/>
              <a:ext cx="1295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b3242"/>
                  </a:solidFill>
                  <a:latin typeface="News Gothic MT"/>
                </a:rPr>
                <a:t>Agentes de intermediación laboral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5448240" y="3881520"/>
            <a:ext cx="936720" cy="1406520"/>
            <a:chOff x="5448240" y="3881520"/>
            <a:chExt cx="936720" cy="1406520"/>
          </a:xfrm>
        </p:grpSpPr>
        <p:pic>
          <p:nvPicPr>
            <p:cNvPr id="91" name="Picture 14" descr="j0438390"/>
            <p:cNvPicPr/>
            <p:nvPr/>
          </p:nvPicPr>
          <p:blipFill>
            <a:blip r:embed="rId6"/>
            <a:stretch/>
          </p:blipFill>
          <p:spPr>
            <a:xfrm>
              <a:off x="5448240" y="3881520"/>
              <a:ext cx="9367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448240" y="4889520"/>
              <a:ext cx="863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b3242"/>
                  </a:solidFill>
                  <a:latin typeface="News Gothic MT"/>
                </a:rPr>
                <a:t>Unidades de barrio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93" name="Group 16"/>
          <p:cNvGrpSpPr/>
          <p:nvPr/>
        </p:nvGrpSpPr>
        <p:grpSpPr>
          <a:xfrm>
            <a:off x="4800600" y="2009880"/>
            <a:ext cx="936720" cy="1406520"/>
            <a:chOff x="4800600" y="2009880"/>
            <a:chExt cx="936720" cy="1406520"/>
          </a:xfrm>
        </p:grpSpPr>
        <p:pic>
          <p:nvPicPr>
            <p:cNvPr id="94" name="Picture 17" descr="j0433158"/>
            <p:cNvPicPr/>
            <p:nvPr/>
          </p:nvPicPr>
          <p:blipFill>
            <a:blip r:embed="rId7"/>
            <a:stretch/>
          </p:blipFill>
          <p:spPr>
            <a:xfrm>
              <a:off x="4800600" y="2009880"/>
              <a:ext cx="93672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8"/>
            <p:cNvSpPr/>
            <p:nvPr/>
          </p:nvSpPr>
          <p:spPr>
            <a:xfrm>
              <a:off x="4873680" y="3017880"/>
              <a:ext cx="7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9b3242"/>
                  </a:solidFill>
                  <a:latin typeface="News Gothic MT"/>
                </a:rPr>
                <a:t>Andalucía Orient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96" name="Group 19"/>
          <p:cNvGrpSpPr/>
          <p:nvPr/>
        </p:nvGrpSpPr>
        <p:grpSpPr>
          <a:xfrm>
            <a:off x="7219800" y="4097160"/>
            <a:ext cx="1366560" cy="1641600"/>
            <a:chOff x="7219800" y="4097160"/>
            <a:chExt cx="1366560" cy="1641600"/>
          </a:xfrm>
        </p:grpSpPr>
        <p:pic>
          <p:nvPicPr>
            <p:cNvPr id="97" name="Picture 20" descr="j0437731"/>
            <p:cNvPicPr/>
            <p:nvPr/>
          </p:nvPicPr>
          <p:blipFill>
            <a:blip r:embed="rId8"/>
            <a:stretch/>
          </p:blipFill>
          <p:spPr>
            <a:xfrm>
              <a:off x="7248240" y="4097160"/>
              <a:ext cx="12970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1"/>
            <p:cNvSpPr/>
            <p:nvPr/>
          </p:nvSpPr>
          <p:spPr>
            <a:xfrm>
              <a:off x="7219800" y="5340240"/>
              <a:ext cx="1366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3fafb7"/>
                  </a:solidFill>
                  <a:latin typeface="News Gothic MT"/>
                </a:rPr>
                <a:t>Población no activ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99" name="Group 22"/>
          <p:cNvGrpSpPr/>
          <p:nvPr/>
        </p:nvGrpSpPr>
        <p:grpSpPr>
          <a:xfrm>
            <a:off x="7176960" y="857160"/>
            <a:ext cx="1296720" cy="1624320"/>
            <a:chOff x="7176960" y="857160"/>
            <a:chExt cx="1296720" cy="1624320"/>
          </a:xfrm>
        </p:grpSpPr>
        <p:pic>
          <p:nvPicPr>
            <p:cNvPr id="100" name="Picture 23" descr="j0437723"/>
            <p:cNvPicPr/>
            <p:nvPr/>
          </p:nvPicPr>
          <p:blipFill>
            <a:blip r:embed="rId9"/>
            <a:stretch/>
          </p:blipFill>
          <p:spPr>
            <a:xfrm>
              <a:off x="7176960" y="857160"/>
              <a:ext cx="129672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4"/>
            <p:cNvSpPr/>
            <p:nvPr/>
          </p:nvSpPr>
          <p:spPr>
            <a:xfrm>
              <a:off x="7243560" y="208296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3fafb7"/>
                  </a:solidFill>
                  <a:latin typeface="News Gothic MT"/>
                </a:rPr>
                <a:t>Demandantes de empleo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sp>
        <p:nvSpPr>
          <p:cNvPr id="102" name="AutoShape 25"/>
          <p:cNvSpPr/>
          <p:nvPr/>
        </p:nvSpPr>
        <p:spPr>
          <a:xfrm>
            <a:off x="6384960" y="2800440"/>
            <a:ext cx="2411280" cy="6890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Asesoramiento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Orientación vocacional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Acompañamiento en la búsqueda de empleo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03" name="AutoShape 26"/>
          <p:cNvSpPr/>
          <p:nvPr/>
        </p:nvSpPr>
        <p:spPr>
          <a:xfrm>
            <a:off x="3289320" y="5321160"/>
            <a:ext cx="215892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856" y="-6946"/>
                </a:moveTo>
                <a:lnTo>
                  <a:pt x="22362" y="6851"/>
                </a:lnTo>
              </a:path>
              <a:path w="21600" h="21600">
                <a:moveTo>
                  <a:pt x="22362" y="0"/>
                </a:moveTo>
                <a:lnTo>
                  <a:pt x="22362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Acercamiento a los recursos y dispositivos del Servicio Andaluz de Empleo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</p:txBody>
      </p:sp>
      <p:cxnSp>
        <p:nvCxnSpPr>
          <p:cNvPr id="104" name="AutoShape 27"/>
          <p:cNvCxnSpPr/>
          <p:nvPr/>
        </p:nvCxnSpPr>
        <p:spPr>
          <a:xfrm flipH="1" rot="16200000">
            <a:off x="3609720" y="2524680"/>
            <a:ext cx="2066040" cy="1610280"/>
          </a:xfrm>
          <a:prstGeom prst="curvedConnector2">
            <a:avLst/>
          </a:prstGeom>
          <a:ln w="50760">
            <a:solidFill>
              <a:srgbClr val="9b324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AutoShape 28"/>
          <p:cNvCxnSpPr/>
          <p:nvPr/>
        </p:nvCxnSpPr>
        <p:spPr>
          <a:xfrm flipV="1" rot="10800000">
            <a:off x="5736600" y="1497600"/>
            <a:ext cx="1440360" cy="980280"/>
          </a:xfrm>
          <a:prstGeom prst="curvedConnector5">
            <a:avLst>
              <a:gd name="adj1" fmla="val 49925"/>
              <a:gd name="adj2" fmla="val 50000"/>
              <a:gd name="adj3" fmla="val 49925"/>
            </a:avLst>
          </a:prstGeom>
          <a:ln w="507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6" name="AutoShape 29"/>
          <p:cNvCxnSpPr/>
          <p:nvPr/>
        </p:nvCxnSpPr>
        <p:spPr>
          <a:xfrm rot="10800000">
            <a:off x="6384240" y="4361760"/>
            <a:ext cx="864360" cy="3848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AutoShape 30"/>
          <p:cNvSpPr/>
          <p:nvPr/>
        </p:nvSpPr>
        <p:spPr>
          <a:xfrm>
            <a:off x="407880" y="4818240"/>
            <a:ext cx="2252880" cy="50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812" y="-12061"/>
                </a:moveTo>
                <a:lnTo>
                  <a:pt x="22331" y="4906"/>
                </a:lnTo>
              </a:path>
              <a:path w="21600" h="21600">
                <a:moveTo>
                  <a:pt x="22331" y="0"/>
                </a:moveTo>
                <a:lnTo>
                  <a:pt x="22331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Servicio rápido y personalizado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Asesoramiento continuado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News Gothic MT"/>
              </a:rPr>
              <a:t>- Gestión rápida y eficaz de RRHH 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</p:txBody>
      </p:sp>
      <p:cxnSp>
        <p:nvCxnSpPr>
          <p:cNvPr id="108" name="AutoShape 31"/>
          <p:cNvCxnSpPr/>
          <p:nvPr/>
        </p:nvCxnSpPr>
        <p:spPr>
          <a:xfrm flipH="1" rot="16200000">
            <a:off x="5358960" y="3324600"/>
            <a:ext cx="467640" cy="64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b3242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09" name="AutoShape 32"/>
          <p:cNvCxnSpPr/>
          <p:nvPr/>
        </p:nvCxnSpPr>
        <p:spPr>
          <a:xfrm flipH="1" rot="16200000">
            <a:off x="1326600" y="2459520"/>
            <a:ext cx="1188360" cy="1151640"/>
          </a:xfrm>
          <a:prstGeom prst="curvedConnector2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AutoShape 33"/>
          <p:cNvCxnSpPr/>
          <p:nvPr/>
        </p:nvCxnSpPr>
        <p:spPr>
          <a:xfrm flipV="1">
            <a:off x="3431880" y="2296440"/>
            <a:ext cx="143640" cy="1261080"/>
          </a:xfrm>
          <a:prstGeom prst="curvedConnector2">
            <a:avLst/>
          </a:prstGeom>
          <a:ln w="50760">
            <a:solidFill>
              <a:srgbClr val="9b324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AutoShape 34"/>
          <p:cNvCxnSpPr/>
          <p:nvPr/>
        </p:nvCxnSpPr>
        <p:spPr>
          <a:xfrm rot="10800000">
            <a:off x="4080600" y="2296440"/>
            <a:ext cx="866160" cy="919800"/>
          </a:xfrm>
          <a:prstGeom prst="curvedConnector2">
            <a:avLst/>
          </a:prstGeom>
          <a:ln w="50760">
            <a:solidFill>
              <a:srgbClr val="9b3242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AutoShape 35"/>
          <p:cNvCxnSpPr/>
          <p:nvPr/>
        </p:nvCxnSpPr>
        <p:spPr>
          <a:xfrm>
            <a:off x="3433680" y="3629160"/>
            <a:ext cx="2015280" cy="1459440"/>
          </a:xfrm>
          <a:prstGeom prst="curvedConnector5">
            <a:avLst>
              <a:gd name="adj1" fmla="val 49955"/>
              <a:gd name="adj2" fmla="val 49987"/>
              <a:gd name="adj3" fmla="val 49955"/>
            </a:avLst>
          </a:prstGeom>
          <a:ln w="34920">
            <a:solidFill>
              <a:srgbClr val="9b3242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ondillo"/>
          <p:cNvPicPr/>
          <p:nvPr/>
        </p:nvPicPr>
        <p:blipFill>
          <a:blip r:embed="rId1"/>
          <a:stretch/>
        </p:blipFill>
        <p:spPr>
          <a:xfrm>
            <a:off x="642960" y="304920"/>
            <a:ext cx="7643880" cy="6553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15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9"/>
          <p:cNvSpPr/>
          <p:nvPr/>
        </p:nvSpPr>
        <p:spPr>
          <a:xfrm>
            <a:off x="1000080" y="642960"/>
            <a:ext cx="712332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b3242"/>
                </a:solidFill>
                <a:uFillTx/>
                <a:latin typeface="News Gothic MT"/>
              </a:rPr>
              <a:t>UNIDADES DE BARRI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Unidades de barrio es un programa perteneciente a la Consejería de empleo y gestionado por la Fundación Andaluza Fondo de Formación y Emple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Las </a:t>
            </a:r>
            <a:r>
              <a:rPr b="1" lang="es-ES" sz="2000" spc="-1" strike="noStrike">
                <a:solidFill>
                  <a:srgbClr val="800000"/>
                </a:solidFill>
                <a:latin typeface="News Gothic MT"/>
              </a:rPr>
              <a:t>Unidades de Barrio</a:t>
            </a: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 … dinamizan la demanda de empleo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Se instalan junto a la ciudadanía para acercar los recurso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y dispositivos del Servicio Andaluz de Empleo a person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con especiales dificultades para el acceso al emple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05600" y="392904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News Gothic MT"/>
              </a:rPr>
              <a:t>Objetivo general</a:t>
            </a: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60880" y="4437000"/>
            <a:ext cx="75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News Gothic MT"/>
              </a:rPr>
              <a:t>Captación de la población no activa para su acercamiento a los 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News Gothic MT"/>
              </a:rPr>
              <a:t>recursos y dispositivos del Servicio Andaluz de Empleo”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ondillo"/>
          <p:cNvPicPr/>
          <p:nvPr/>
        </p:nvPicPr>
        <p:blipFill>
          <a:blip r:embed="rId1"/>
          <a:stretch/>
        </p:blipFill>
        <p:spPr>
          <a:xfrm>
            <a:off x="642960" y="304920"/>
            <a:ext cx="7643880" cy="6553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21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625680" y="54936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0000"/>
                </a:solidFill>
                <a:latin typeface="News Gothic MT"/>
              </a:rPr>
              <a:t>ÁMBITO DE ACTUACIÓN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42920" y="1052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News Gothic MT"/>
              </a:rPr>
              <a:t>104 profesionales altamente cualificados, expertos en mercado de trabajo.</a:t>
            </a:r>
            <a:endParaRPr b="0" lang="en-US" sz="14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(Equipos multidisciplinares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2268360" y="2781360"/>
            <a:ext cx="71640" cy="358560"/>
          </a:xfrm>
          <a:prstGeom prst="downArrow">
            <a:avLst>
              <a:gd name="adj1" fmla="val 50000"/>
              <a:gd name="adj2" fmla="val 125126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042920" y="3141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39640" y="3500280"/>
            <a:ext cx="8136000" cy="27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Más de 100.000 habitantes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Elevada tasa de desemple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News Gothic MT"/>
              </a:rPr>
              <a:t>Escaso uso y/o aprovechamiento de los recursos públicos de empleo</a:t>
            </a: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Escasa motivación de la población desempleada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News Gothic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Presencia de tejido asociativo.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2280" y="17002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News Gothic MT"/>
              </a:rPr>
              <a:t>Actúan en: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611280" y="2205000"/>
            <a:ext cx="3816360" cy="503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0000"/>
                </a:solidFill>
                <a:latin typeface="News Gothic MT"/>
              </a:rPr>
              <a:t>10 grandes ciudades Andaluzas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859280" y="2852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00"/>
                </a:solidFill>
                <a:latin typeface="News Gothic MT"/>
              </a:rPr>
              <a:t>((Adaptación al territorio))</a:t>
            </a: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ondillo"/>
          <p:cNvPicPr/>
          <p:nvPr/>
        </p:nvPicPr>
        <p:blipFill>
          <a:blip r:embed="rId1"/>
          <a:stretch/>
        </p:blipFill>
        <p:spPr>
          <a:xfrm>
            <a:off x="142884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2195640" y="2276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olio Light"/>
            </a:endParaRPr>
          </a:p>
        </p:txBody>
      </p:sp>
      <p:pic>
        <p:nvPicPr>
          <p:cNvPr id="132" name="Picture 4" descr="52"/>
          <p:cNvPicPr/>
          <p:nvPr/>
        </p:nvPicPr>
        <p:blipFill>
          <a:blip r:embed="rId2"/>
          <a:stretch/>
        </p:blipFill>
        <p:spPr>
          <a:xfrm>
            <a:off x="146160" y="5872320"/>
            <a:ext cx="8851680" cy="874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116000" y="1052640"/>
            <a:ext cx="698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4920" y="476280"/>
            <a:ext cx="907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News Gothic MT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News Gothic MT"/>
              </a:rPr>
              <a:t>Actúan en barrios con un contexto territorial, económico, social y humano similar</a:t>
            </a:r>
            <a:endParaRPr b="0" lang="en-US" sz="1600" spc="-1" strike="noStrike">
              <a:solidFill>
                <a:srgbClr val="000000"/>
              </a:solidFill>
              <a:latin typeface="Folio Light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487520" y="2562120"/>
            <a:ext cx="1441080" cy="854640"/>
            <a:chOff x="1487520" y="2562120"/>
            <a:chExt cx="1441080" cy="854640"/>
          </a:xfrm>
        </p:grpSpPr>
        <p:sp>
          <p:nvSpPr>
            <p:cNvPr id="136" name="AutoShape 10"/>
            <p:cNvSpPr/>
            <p:nvPr/>
          </p:nvSpPr>
          <p:spPr>
            <a:xfrm>
              <a:off x="1487520" y="2562120"/>
              <a:ext cx="1441080" cy="713520"/>
            </a:xfrm>
            <a:prstGeom prst="roundRect">
              <a:avLst>
                <a:gd name="adj" fmla="val 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37" name="Text Box 11"/>
            <p:cNvSpPr/>
            <p:nvPr/>
          </p:nvSpPr>
          <p:spPr>
            <a:xfrm>
              <a:off x="1487520" y="2562120"/>
              <a:ext cx="144108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HUELV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La Orden – La Hispanidad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Los Rosales – Pérez Cubillas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sp>
        <p:nvSpPr>
          <p:cNvPr id="138" name="Line 12"/>
          <p:cNvSpPr/>
          <p:nvPr/>
        </p:nvSpPr>
        <p:spPr>
          <a:xfrm flipH="1">
            <a:off x="3319200" y="4132440"/>
            <a:ext cx="887400" cy="46656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39" name="Line 13"/>
          <p:cNvSpPr/>
          <p:nvPr/>
        </p:nvSpPr>
        <p:spPr>
          <a:xfrm flipH="1" flipV="1">
            <a:off x="2906280" y="3486240"/>
            <a:ext cx="708120" cy="31104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grpSp>
        <p:nvGrpSpPr>
          <p:cNvPr id="140" name="Group 14"/>
          <p:cNvGrpSpPr/>
          <p:nvPr/>
        </p:nvGrpSpPr>
        <p:grpSpPr>
          <a:xfrm>
            <a:off x="1631880" y="3641760"/>
            <a:ext cx="1510920" cy="685440"/>
            <a:chOff x="1631880" y="3641760"/>
            <a:chExt cx="1510920" cy="685440"/>
          </a:xfrm>
        </p:grpSpPr>
        <p:sp>
          <p:nvSpPr>
            <p:cNvPr id="141" name="AutoShape 15"/>
            <p:cNvSpPr/>
            <p:nvPr/>
          </p:nvSpPr>
          <p:spPr>
            <a:xfrm>
              <a:off x="1631880" y="3641760"/>
              <a:ext cx="1510920" cy="685440"/>
            </a:xfrm>
            <a:prstGeom prst="roundRect">
              <a:avLst>
                <a:gd name="adj" fmla="val 24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42" name="Text Box 16"/>
            <p:cNvSpPr/>
            <p:nvPr/>
          </p:nvSpPr>
          <p:spPr>
            <a:xfrm>
              <a:off x="1631880" y="3641760"/>
              <a:ext cx="1510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JEREZ DE LA FRONTER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00"/>
                  </a:solidFill>
                  <a:latin typeface="News Gothic MT"/>
                </a:rPr>
                <a:t>Zona Norte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00"/>
                  </a:solidFill>
                  <a:latin typeface="News Gothic MT"/>
                </a:rPr>
                <a:t>Zona Sur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143" name="Group 17"/>
          <p:cNvGrpSpPr/>
          <p:nvPr/>
        </p:nvGrpSpPr>
        <p:grpSpPr>
          <a:xfrm>
            <a:off x="1128600" y="4572000"/>
            <a:ext cx="2446560" cy="653760"/>
            <a:chOff x="1128600" y="4572000"/>
            <a:chExt cx="2446560" cy="653760"/>
          </a:xfrm>
        </p:grpSpPr>
        <p:sp>
          <p:nvSpPr>
            <p:cNvPr id="144" name="AutoShape 18"/>
            <p:cNvSpPr/>
            <p:nvPr/>
          </p:nvSpPr>
          <p:spPr>
            <a:xfrm>
              <a:off x="1128600" y="4585680"/>
              <a:ext cx="2446560" cy="640080"/>
            </a:xfrm>
            <a:prstGeom prst="roundRect">
              <a:avLst>
                <a:gd name="adj" fmla="val 21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1128600" y="4572000"/>
              <a:ext cx="24465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CÁDIZ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Cerro del Moro – Loreto – Puntales – Trille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La Paz – Guillén Moreno – San Severiano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Santa María – Pópulo – La Viña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pic>
        <p:nvPicPr>
          <p:cNvPr id="146" name="Picture 20" descr=""/>
          <p:cNvPicPr/>
          <p:nvPr/>
        </p:nvPicPr>
        <p:blipFill>
          <a:blip r:embed="rId3"/>
          <a:stretch/>
        </p:blipFill>
        <p:spPr>
          <a:xfrm>
            <a:off x="3071880" y="2000160"/>
            <a:ext cx="3828960" cy="22384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1"/>
          <p:cNvGrpSpPr/>
          <p:nvPr/>
        </p:nvGrpSpPr>
        <p:grpSpPr>
          <a:xfrm>
            <a:off x="7018200" y="2432160"/>
            <a:ext cx="1382400" cy="504720"/>
            <a:chOff x="7018200" y="2432160"/>
            <a:chExt cx="1382400" cy="504720"/>
          </a:xfrm>
        </p:grpSpPr>
        <p:sp>
          <p:nvSpPr>
            <p:cNvPr id="148" name="AutoShape 22"/>
            <p:cNvSpPr/>
            <p:nvPr/>
          </p:nvSpPr>
          <p:spPr>
            <a:xfrm>
              <a:off x="7018200" y="2432160"/>
              <a:ext cx="1382400" cy="50472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49" name="Text Box 23"/>
            <p:cNvSpPr/>
            <p:nvPr/>
          </p:nvSpPr>
          <p:spPr>
            <a:xfrm>
              <a:off x="7018200" y="2432160"/>
              <a:ext cx="13824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ALMERÍ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00"/>
                  </a:solidFill>
                  <a:latin typeface="News Gothic MT"/>
                </a:rPr>
                <a:t>Chanca-Pescadería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00"/>
                  </a:solidFill>
                  <a:latin typeface="News Gothic MT"/>
                </a:rPr>
                <a:t>El Puche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150" name="Group 24"/>
          <p:cNvGrpSpPr/>
          <p:nvPr/>
        </p:nvGrpSpPr>
        <p:grpSpPr>
          <a:xfrm>
            <a:off x="6240600" y="1639800"/>
            <a:ext cx="1095120" cy="611280"/>
            <a:chOff x="6240600" y="1639800"/>
            <a:chExt cx="1095120" cy="611280"/>
          </a:xfrm>
        </p:grpSpPr>
        <p:sp>
          <p:nvSpPr>
            <p:cNvPr id="151" name="AutoShape 25"/>
            <p:cNvSpPr/>
            <p:nvPr/>
          </p:nvSpPr>
          <p:spPr>
            <a:xfrm>
              <a:off x="6240600" y="1639800"/>
              <a:ext cx="1095120" cy="51480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52" name="Text Box 26"/>
            <p:cNvSpPr/>
            <p:nvPr/>
          </p:nvSpPr>
          <p:spPr>
            <a:xfrm>
              <a:off x="6240600" y="1639800"/>
              <a:ext cx="10951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JAÉN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8000"/>
                  </a:solidFill>
                  <a:latin typeface="News Gothic MT"/>
                </a:rPr>
                <a:t>Polígono del Valle 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8000"/>
                  </a:solidFill>
                  <a:latin typeface="News Gothic MT"/>
                </a:rPr>
                <a:t>Zona Sur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grpSp>
        <p:nvGrpSpPr>
          <p:cNvPr id="153" name="Group 27"/>
          <p:cNvGrpSpPr/>
          <p:nvPr/>
        </p:nvGrpSpPr>
        <p:grpSpPr>
          <a:xfrm>
            <a:off x="1631880" y="1424160"/>
            <a:ext cx="2087640" cy="732960"/>
            <a:chOff x="1631880" y="1424160"/>
            <a:chExt cx="2087640" cy="732960"/>
          </a:xfrm>
        </p:grpSpPr>
        <p:sp>
          <p:nvSpPr>
            <p:cNvPr id="154" name="AutoShape 28"/>
            <p:cNvSpPr/>
            <p:nvPr/>
          </p:nvSpPr>
          <p:spPr>
            <a:xfrm>
              <a:off x="1631880" y="1424160"/>
              <a:ext cx="2087640" cy="717120"/>
            </a:xfrm>
            <a:prstGeom prst="roundRect">
              <a:avLst>
                <a:gd name="adj" fmla="val 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55" name="Text Box 29"/>
            <p:cNvSpPr/>
            <p:nvPr/>
          </p:nvSpPr>
          <p:spPr>
            <a:xfrm>
              <a:off x="1631880" y="1424160"/>
              <a:ext cx="20876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SEVILL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Amate – Cerro del Águila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Alcosa – San Pablo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San Jerónimo – Pino Montano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Polígono Norte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sp>
        <p:nvSpPr>
          <p:cNvPr id="156" name="Line 30"/>
          <p:cNvSpPr/>
          <p:nvPr/>
        </p:nvSpPr>
        <p:spPr>
          <a:xfrm flipV="1">
            <a:off x="6313320" y="2719440"/>
            <a:ext cx="648000" cy="68904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7" name="Line 31"/>
          <p:cNvSpPr/>
          <p:nvPr/>
        </p:nvSpPr>
        <p:spPr>
          <a:xfrm flipH="1" flipV="1">
            <a:off x="3503160" y="2287440"/>
            <a:ext cx="846360" cy="79704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8" name="Line 32"/>
          <p:cNvSpPr/>
          <p:nvPr/>
        </p:nvSpPr>
        <p:spPr>
          <a:xfrm flipV="1">
            <a:off x="5087880" y="1926720"/>
            <a:ext cx="17640" cy="54612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59" name="Line 33"/>
          <p:cNvSpPr/>
          <p:nvPr/>
        </p:nvSpPr>
        <p:spPr>
          <a:xfrm flipV="1">
            <a:off x="5880240" y="1999800"/>
            <a:ext cx="647640" cy="54468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0" name="Line 34"/>
          <p:cNvSpPr/>
          <p:nvPr/>
        </p:nvSpPr>
        <p:spPr>
          <a:xfrm>
            <a:off x="5135400" y="3511440"/>
            <a:ext cx="673200" cy="73836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grpSp>
        <p:nvGrpSpPr>
          <p:cNvPr id="161" name="Group 35"/>
          <p:cNvGrpSpPr/>
          <p:nvPr/>
        </p:nvGrpSpPr>
        <p:grpSpPr>
          <a:xfrm>
            <a:off x="3719520" y="4735440"/>
            <a:ext cx="1368000" cy="519840"/>
            <a:chOff x="3719520" y="4735440"/>
            <a:chExt cx="1368000" cy="519840"/>
          </a:xfrm>
        </p:grpSpPr>
        <p:sp>
          <p:nvSpPr>
            <p:cNvPr id="162" name="AutoShape 36"/>
            <p:cNvSpPr/>
            <p:nvPr/>
          </p:nvSpPr>
          <p:spPr>
            <a:xfrm>
              <a:off x="3719520" y="4735440"/>
              <a:ext cx="1368000" cy="445680"/>
            </a:xfrm>
            <a:prstGeom prst="roundRect">
              <a:avLst>
                <a:gd name="adj" fmla="val 2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63" name="Text Box 37"/>
            <p:cNvSpPr/>
            <p:nvPr/>
          </p:nvSpPr>
          <p:spPr>
            <a:xfrm>
              <a:off x="3719520" y="4735440"/>
              <a:ext cx="13680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800000"/>
                  </a:solidFill>
                  <a:latin typeface="News Gothic MT"/>
                </a:rPr>
                <a:t>ALGECIRAS</a:t>
              </a:r>
              <a:endParaRPr b="0" lang="en-US" sz="12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6600"/>
                  </a:solidFill>
                  <a:latin typeface="News Gothic MT"/>
                </a:rPr>
                <a:t>La Piñera-Saladillo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sp>
        <p:nvSpPr>
          <p:cNvPr id="164" name="Freeform 38"/>
          <p:cNvSpPr/>
          <p:nvPr/>
        </p:nvSpPr>
        <p:spPr>
          <a:xfrm>
            <a:off x="5735520" y="3584520"/>
            <a:ext cx="1025640" cy="84312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646" h="531">
                <a:moveTo>
                  <a:pt x="0" y="0"/>
                </a:moveTo>
                <a:lnTo>
                  <a:pt x="634" y="531"/>
                </a:lnTo>
                <a:lnTo>
                  <a:pt x="646" y="507"/>
                </a:lnTo>
              </a:path>
            </a:pathLst>
          </a:custGeom>
          <a:noFill/>
          <a:ln w="12600">
            <a:solidFill>
              <a:srgbClr val="99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5" name="Line 39"/>
          <p:cNvSpPr/>
          <p:nvPr/>
        </p:nvSpPr>
        <p:spPr>
          <a:xfrm>
            <a:off x="4295880" y="4087800"/>
            <a:ext cx="0" cy="62712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olio Light"/>
            </a:endParaRPr>
          </a:p>
        </p:txBody>
      </p:sp>
      <p:sp>
        <p:nvSpPr>
          <p:cNvPr id="166" name="Text Box 40"/>
          <p:cNvSpPr/>
          <p:nvPr/>
        </p:nvSpPr>
        <p:spPr>
          <a:xfrm rot="16186800">
            <a:off x="5495400" y="4035600"/>
            <a:ext cx="6976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800000"/>
                </a:solidFill>
                <a:latin typeface="News Gothic MT"/>
              </a:rPr>
              <a:t>MÁLAGA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Capuchinos – Centro 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Carretera de Cádiz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El Palo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</p:txBody>
      </p:sp>
      <p:grpSp>
        <p:nvGrpSpPr>
          <p:cNvPr id="167" name="Group 41"/>
          <p:cNvGrpSpPr/>
          <p:nvPr/>
        </p:nvGrpSpPr>
        <p:grpSpPr>
          <a:xfrm>
            <a:off x="6600960" y="4448160"/>
            <a:ext cx="1510920" cy="611280"/>
            <a:chOff x="6600960" y="4448160"/>
            <a:chExt cx="1510920" cy="611280"/>
          </a:xfrm>
        </p:grpSpPr>
        <p:sp>
          <p:nvSpPr>
            <p:cNvPr id="168" name="AutoShape 42"/>
            <p:cNvSpPr/>
            <p:nvPr/>
          </p:nvSpPr>
          <p:spPr>
            <a:xfrm>
              <a:off x="6600960" y="4490280"/>
              <a:ext cx="1510920" cy="526680"/>
            </a:xfrm>
            <a:prstGeom prst="roundRect">
              <a:avLst>
                <a:gd name="adj" fmla="val 2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  <a:effectLst>
              <a:outerShdw dist="152735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6600960" y="4448160"/>
              <a:ext cx="151092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800000"/>
                  </a:solidFill>
                  <a:latin typeface="News Gothic MT"/>
                </a:rPr>
                <a:t>GRANADA</a:t>
              </a:r>
              <a:endParaRPr b="0" lang="en-US" sz="10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8000"/>
                  </a:solidFill>
                  <a:latin typeface="News Gothic MT"/>
                </a:rPr>
                <a:t>La Chana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Zona</a:t>
              </a:r>
              <a:r>
                <a:rPr b="1" lang="es-ES" sz="800" spc="-1" strike="noStrike">
                  <a:solidFill>
                    <a:srgbClr val="000000"/>
                  </a:solidFill>
                  <a:latin typeface="News Gothic MT"/>
                </a:rPr>
                <a:t> </a:t>
              </a: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Norte – Albayzín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6600"/>
                  </a:solidFill>
                  <a:latin typeface="News Gothic MT"/>
                </a:rPr>
                <a:t>Zaidín</a:t>
              </a:r>
              <a:endParaRPr b="0" lang="en-US" sz="800" spc="-1" strike="noStrike">
                <a:solidFill>
                  <a:srgbClr val="000000"/>
                </a:solidFill>
                <a:latin typeface="Folio Light"/>
              </a:endParaRPr>
            </a:p>
          </p:txBody>
        </p:sp>
      </p:grpSp>
      <p:sp>
        <p:nvSpPr>
          <p:cNvPr id="170" name="Text Box 44"/>
          <p:cNvSpPr/>
          <p:nvPr/>
        </p:nvSpPr>
        <p:spPr>
          <a:xfrm>
            <a:off x="4734720" y="1258920"/>
            <a:ext cx="8604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800000"/>
                </a:solidFill>
                <a:latin typeface="News Gothic MT"/>
              </a:rPr>
              <a:t>CÓRDOBA</a:t>
            </a:r>
            <a:endParaRPr b="0" lang="en-US" sz="10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Ciudad Jardín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Distrito Sur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6600"/>
                </a:solidFill>
                <a:latin typeface="News Gothic MT"/>
              </a:rPr>
              <a:t>Valdeolleros</a:t>
            </a:r>
            <a:endParaRPr b="0" lang="en-US" sz="800" spc="-1" strike="noStrike">
              <a:solidFill>
                <a:srgbClr val="000000"/>
              </a:solidFill>
              <a:latin typeface="Folio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8:39:43Z</dcterms:created>
  <dc:creator>Ali Delgado</dc:creator>
  <dc:description/>
  <dc:language>en-US</dc:language>
  <cp:lastModifiedBy>11000 IS Africa Boceta Cecilio</cp:lastModifiedBy>
  <dcterms:modified xsi:type="dcterms:W3CDTF">2009-10-29T17:16:47Z</dcterms:modified>
  <cp:revision>101</cp:revision>
  <dc:subject/>
  <dc:title>Presentación de PowerPoint</dc:title>
</cp:coreProperties>
</file>