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D76-3BE1-47DB-982E-7B12477C20C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7402-AF51-4E88-973C-8FE1BEE50B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CB41-F11C-4AD4-BF0E-EDDA552541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979-B87B-4D4B-8274-511C97B8FD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08B2-F397-43C2-B0E6-15EE8825570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4ACA-6A4A-472E-B1E5-1BBA6DA4AA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191-9F96-4ADA-AD0E-4B8A4E35161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8EE-4E5D-4232-872F-C029BDED60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5924-3A89-4BA9-ACED-FC15114E84F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00CA-88A5-4761-9295-8461A09A3CA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F79E-EB2F-4689-9F9A-040DF587DEF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E80-B88D-4266-94C3-F636D576AB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CF63-36F9-4E71-8A9E-5C308E7D85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5850-1BDA-4D56-82D1-7979800D37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7C26-E68D-454D-B953-AC99508BD4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4D01-4BDF-421F-AAB2-BC5D62FB06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6E8-5EEC-47AB-B0D4-F41DF457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11CF-7389-4775-B348-41064F95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D48-961B-4AF6-A2FC-510A7795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4C5-0290-4A35-A3DA-A9492379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78A-3F3C-47A6-AA61-84B860E2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F40-838C-4065-858B-0966489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A38-BD35-4979-8144-0273D7E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2C4-B9D1-4AA3-BFCE-0817A15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72D-95B4-43D5-9C50-3FC7019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DE8-2078-4136-A41D-EB3B63C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74E-9ABF-4493-9FAB-0D4ABE04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B6F-93CF-4BE3-B568-2CFA0C5E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4A5C-460C-4375-B9B9-957A9C171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mailto:ceainjerez@acoge.org" TargetMode="External"/><Relationship Id="rId4" Type="http://schemas.openxmlformats.org/officeDocument/2006/relationships/hyperlink" Target="mailto:ceainlaboral@acoge.org" TargetMode="External"/><Relationship Id="rId5" Type="http://schemas.openxmlformats.org/officeDocument/2006/relationships/hyperlink" Target="mailto:ceaincadiz@acoge.or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13 banda grafismos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0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2" name="Picture 34" descr="Captura1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442800" y="4429080"/>
            <a:ext cx="535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9744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9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93" name="5 Rectángulo"/>
          <p:cNvSpPr/>
          <p:nvPr/>
        </p:nvSpPr>
        <p:spPr>
          <a:xfrm>
            <a:off x="428760" y="571680"/>
            <a:ext cx="82864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apacit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los alumnos/as en conocimientos, habilidades, actitudes y competencia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mediación intercultural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ealizar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ácticas profesional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en diferentes entidades tanto públicas como privadas 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 servicios de atención al colectivo inmigrante y minorías étnicas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Sensibiliz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a los agentes sociales sobre la función que cumplen las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diador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mover acciones de acompañamiento y seguimiento en el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roceso de inser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laboral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grar una inserción laboral en torno al 30%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96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97" name="4 Rectángulo"/>
          <p:cNvSpPr/>
          <p:nvPr/>
        </p:nvSpPr>
        <p:spPr>
          <a:xfrm>
            <a:off x="428760" y="428760"/>
            <a:ext cx="814392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ERFIL DEL ALUMNADO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rsonas desempleadas mayores de 25 años El 70% seleccionado por CEAIN. El 30% por el SAE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rmación y/o experiencia previa en el ámbito de la inmigración e interculturalidad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ominio del castellan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ivel educativo equivalente a la ESO, incluyendo a aquellas personas que no cuentan con la homologación de dichos estudios en España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és y motivación por la interculturalidad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abilidades de comunic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alumnad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está compuesto por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personas: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16 mujer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hombres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Países de procedencia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Zimbabwe, Uruguay, Marruecos México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Hungría,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l Salvador, Colombia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erún,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rancia, Argentina, Perú, Bolivia, España, Venezuela,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uentan con un contrato en la modalidad de formación durante un añ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l Taller se inicia el 30 de Diciembre de 2008 y finaliza el 29 de Diciembre de 2009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0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01" name="4 Rectángulo"/>
          <p:cNvSpPr/>
          <p:nvPr/>
        </p:nvSpPr>
        <p:spPr>
          <a:xfrm>
            <a:off x="428760" y="642960"/>
            <a:ext cx="807228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ROYECTO “OIKOS”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curso de alojamiento temporal para inmigrant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El proyecto “OIKOS” se ejecuta en la zona sur de Jerez de la Frontera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OBJETIVO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Proporcionar un recurso de alojamiento temporal a inmigrantes que cumplan el perfil señalado, desarrollando paralelamente un plan personalizado de intervención, a fin de facilitar la inserción socio-laboral y el acceso a los bienes y servicios normalizado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DESTINATARIOS: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rsonas inmigrantes de origen extracomunitario en riesgo de exclusión social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Tendrán preferencia los siguientes perfiles: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ujeres con responsabilidades familiares no compartidas (familias   monoparentales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n escasa o nula red social de apoy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esempleadas/os o empleadas/os en condiciones muy precari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8" descr="fondillo"/>
          <p:cNvPicPr/>
          <p:nvPr/>
        </p:nvPicPr>
        <p:blipFill>
          <a:blip r:embed="rId1"/>
          <a:stretch/>
        </p:blipFill>
        <p:spPr>
          <a:xfrm>
            <a:off x="128592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4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05" name="4 Rectángulo"/>
          <p:cNvSpPr/>
          <p:nvPr/>
        </p:nvSpPr>
        <p:spPr>
          <a:xfrm>
            <a:off x="1857240" y="357120"/>
            <a:ext cx="6072480" cy="56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olio Light"/>
              </a:rPr>
              <a:t>Web: www.ceain.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SEDE CENTRAL</a:t>
            </a:r>
            <a:r>
              <a:rPr b="1" lang="es-ES_tradnl" sz="1800" spc="-1" strike="noStrike">
                <a:solidFill>
                  <a:srgbClr val="4d4d4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JEREZ. C/ VICARIO 16. CP 11401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Tfno: 956 34 95 85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3fafb7"/>
                </a:solidFill>
                <a:uFillTx/>
                <a:latin typeface="Century Gothic"/>
                <a:hlinkClick r:id="rId3"/>
              </a:rPr>
              <a:t>ceainjerez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CENTRO DE PROMOCIÓN SOCIOLABO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JEREZ. C/ CARTUJA 2, 1º B. CP 11401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Tfno: 956 33 09 26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3fafb7"/>
                </a:solidFill>
                <a:uFillTx/>
                <a:latin typeface="Century Gothic"/>
                <a:hlinkClick r:id="rId4"/>
              </a:rPr>
              <a:t>ceainlaboral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cc"/>
                </a:solidFill>
                <a:latin typeface="Century Gothic"/>
              </a:rPr>
              <a:t>C</a:t>
            </a:r>
            <a:r>
              <a:rPr b="1" lang="es-ES_tradnl" sz="1800" spc="-1" strike="noStrike">
                <a:solidFill>
                  <a:srgbClr val="6600cc"/>
                </a:solidFill>
                <a:latin typeface="Century Gothic"/>
              </a:rPr>
              <a:t>ENTRO DE RECURSOS EDUCATIVOS Y DE MEDIACIÓN INTERCULTU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 </a:t>
            </a: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CÁDIZ </a:t>
            </a:r>
            <a:r>
              <a:rPr b="1" lang="es-ES_tradnl" sz="1800" spc="-1" strike="noStrike">
                <a:solidFill>
                  <a:srgbClr val="002060"/>
                </a:solidFill>
                <a:latin typeface="Century Gothic"/>
              </a:rPr>
              <a:t>C</a:t>
            </a: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/Corneta Soto Gerrero,9,1ºD</a:t>
            </a:r>
            <a:br>
              <a:rPr sz="1800"/>
            </a:br>
            <a:r>
              <a:rPr b="1" lang="es-ES" sz="1800" spc="-1" strike="noStrike">
                <a:solidFill>
                  <a:srgbClr val="002060"/>
                </a:solidFill>
                <a:latin typeface="Century Gothic"/>
              </a:rPr>
              <a:t>Telf: 956.21.21.46</a:t>
            </a:r>
            <a:br>
              <a:rPr sz="1800"/>
            </a:br>
            <a:r>
              <a:rPr b="0" lang="es-ES" sz="1800" spc="-1" strike="noStrike" u="sng">
                <a:solidFill>
                  <a:srgbClr val="3fafb7"/>
                </a:solidFill>
                <a:uFillTx/>
                <a:latin typeface="Century Gothic"/>
                <a:hlinkClick r:id="rId5"/>
              </a:rPr>
              <a:t>ceaincadiz@acoge.org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“</a:t>
            </a: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Toda persona tiene derecho a circular libremente”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marL="268200" indent="-268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0066"/>
                </a:solidFill>
                <a:latin typeface="Folio Light"/>
              </a:rPr>
              <a:t>(Art.13 Declaración Universal de los Derechos Humanos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6" name="Picture 17" descr="lo"/>
          <p:cNvPicPr/>
          <p:nvPr/>
        </p:nvPicPr>
        <p:blipFill>
          <a:blip r:embed="rId6"/>
          <a:stretch/>
        </p:blipFill>
        <p:spPr>
          <a:xfrm>
            <a:off x="0" y="214200"/>
            <a:ext cx="23572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08" name="Picture 17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0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Logo FSE II Periodo PO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8" descr="logo empleo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Captura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3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4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23" name="Picture 17" descr="lo"/>
          <p:cNvPicPr/>
          <p:nvPr/>
        </p:nvPicPr>
        <p:blipFill>
          <a:blip r:embed="rId6"/>
          <a:stretch/>
        </p:blipFill>
        <p:spPr>
          <a:xfrm>
            <a:off x="1763640" y="3573360"/>
            <a:ext cx="338472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8" descr="fondillo"/>
          <p:cNvPicPr/>
          <p:nvPr/>
        </p:nvPicPr>
        <p:blipFill>
          <a:blip r:embed="rId1"/>
          <a:stretch/>
        </p:blipFill>
        <p:spPr>
          <a:xfrm>
            <a:off x="1357200" y="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7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8" name="4 Rectángulo"/>
          <p:cNvSpPr/>
          <p:nvPr/>
        </p:nvSpPr>
        <p:spPr>
          <a:xfrm>
            <a:off x="785880" y="500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¿QUÉ ES CEAIN?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9" name="5 Rectángulo"/>
          <p:cNvSpPr/>
          <p:nvPr/>
        </p:nvSpPr>
        <p:spPr>
          <a:xfrm>
            <a:off x="500040" y="1000080"/>
            <a:ext cx="8286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EAIN (Centro de Acogida de Inmigrantes) es una Organización No Gubernamental constituida en 1992  y federada en 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Andalucía Acoge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Los fundamentos que guían nuestro trabajo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defensa de los derechos de los inmigrantes: informándoles y asesorándoles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inserción y promoción sociocultural y laboral, desde el respeto a sus raíces culturales y el reconocimiento a su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ontribución socioeconómica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mediación intercultural como instrumento preventivo y de resolución de conflictos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La sensibilización y formación de agentes socioeducativos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8" descr="fondillo"/>
          <p:cNvPicPr/>
          <p:nvPr/>
        </p:nvPicPr>
        <p:blipFill>
          <a:blip r:embed="rId1"/>
          <a:stretch/>
        </p:blipFill>
        <p:spPr>
          <a:xfrm>
            <a:off x="100008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28760" y="2786040"/>
            <a:ext cx="83581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</a:rPr>
              <a:t>Para llevar a cabo esta labor CEAIN cuenta en la actualidad con 4 programas de empleo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GLOBALemplea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ndalucía Orienta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PES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ller de Empleo: Mediainter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3" name="5 Rectángulo"/>
          <p:cNvSpPr/>
          <p:nvPr/>
        </p:nvSpPr>
        <p:spPr>
          <a:xfrm>
            <a:off x="357120" y="285840"/>
            <a:ext cx="85010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CENTRO DE PROMOCIÓN SOCIOLABORAL DE CEAIN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de CEAIN trabajamos para contribuir a la inserción sociolaboral de las personas inmigrantes en la sociedad de acogida mediante el desarrollo de estrategias para favorecer el acceso al Mercado de Trabajo, en igualdad de oportunidades para mujeres y hombres, independientemente de su origen y tomando en consideración la especificad del colectivo, atendiendo tanto a los aspectos culturales como  individual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8" descr="fondillo"/>
          <p:cNvPicPr/>
          <p:nvPr/>
        </p:nvPicPr>
        <p:blipFill>
          <a:blip r:embed="rId1"/>
          <a:stretch/>
        </p:blipFill>
        <p:spPr>
          <a:xfrm>
            <a:off x="128592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6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7" name="6 Rectángulo"/>
          <p:cNvSpPr/>
          <p:nvPr/>
        </p:nvSpPr>
        <p:spPr>
          <a:xfrm>
            <a:off x="428760" y="571680"/>
            <a:ext cx="8072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PERFIL DE LOS/AS USUARIOS/A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Colectivo: P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rsonas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extranjeras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. Mayoritariamente procedentes de países extracomunitarios y/o nacionales de los estados miembros de la Unión Europe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Países de Procedencia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olivia, Marruecos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ombia,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uador, Ucrania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Rumania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Argentina, Brasil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ahara Occidental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enezuela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egal, Rusia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ú,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uba. En menor mediada, Méjico, Paraguay, Honduras, Salvador, Nicaragua, Japón, Inglaterra, Italia, Francia,  Portugal y Estados Unidos.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Sexo: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0% Mujeres y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0 % Hombr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Edad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ntre17 y 60 años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0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1" name="5 Rectángulo"/>
          <p:cNvSpPr/>
          <p:nvPr/>
        </p:nvSpPr>
        <p:spPr>
          <a:xfrm>
            <a:off x="428760" y="357120"/>
            <a:ext cx="81439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Situación Administrativa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Residencia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Residencia  y Trabajo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Visado Estudiante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/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Nacionalizado-a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Estudios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Mayoritariamente con Secundaria / Bachiller  (sin homologación de estudios realizados en país de origen)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studios Universitarios (pocos casos inician tramites de homologación)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En menor medida primaria y “muy excepcionalmente”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  <a:ea typeface="Arial"/>
              </a:rPr>
              <a:t>sin alfabetizar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Calibri"/>
                <a:ea typeface="Arial"/>
              </a:rPr>
              <a:t>Las Ocupaciones más Demandadas por las mujeres son :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eadas de Hogar, Cuidadoras anciana-os/niña-os, Auxiliares de Limpieza,  Ayudantes de Cocina o Camareras, Reponedoras – Cajeras, Camareras de Piso, Recepcionistas Hoteles, Dependientas de Comercio, Administrativas, Secretarias, Costureras, Auxiliares de Geriatría / Clínica. Casera /Guardes (en pareja ). Operarias de Fábric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8" descr="fondillo"/>
          <p:cNvPicPr/>
          <p:nvPr/>
        </p:nvPicPr>
        <p:blipFill>
          <a:blip r:embed="rId1"/>
          <a:stretch/>
        </p:blipFill>
        <p:spPr>
          <a:xfrm>
            <a:off x="1357200" y="30492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4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5" name="5 Rectángulo"/>
          <p:cNvSpPr/>
          <p:nvPr/>
        </p:nvSpPr>
        <p:spPr>
          <a:xfrm>
            <a:off x="428760" y="500040"/>
            <a:ext cx="84294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Programa Andalucía Orient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:  Personas extranjeras en situación Regular inscritos en SAE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sesoramiento e Itinerarios personalizados para la inserción laboral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ompañamiento en la búsqueda de emple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alleres de formación prelaboral: TBAE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formación y asesoramiento en extranjerí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2060"/>
                </a:solidFill>
                <a:latin typeface="Calibri"/>
              </a:rPr>
              <a:t>Servicio de ATENCIÓN PSICOSOCIAL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ención individualizada y sesiones grupal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Ofrece apoyo psicosocial a los/as usuarios/as que lo precisen para superar el desarraigo migratorio a través de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strategias para afrontar el estrés, la ansiedad y la desmotivación.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lanificación o reajuste del proyecto migratori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8" descr="fondillo"/>
          <p:cNvPicPr/>
          <p:nvPr/>
        </p:nvPicPr>
        <p:blipFill>
          <a:blip r:embed="rId1"/>
          <a:stretch/>
        </p:blipFill>
        <p:spPr>
          <a:xfrm>
            <a:off x="1000080" y="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8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9" name="5 Rectángulo"/>
          <p:cNvSpPr/>
          <p:nvPr/>
        </p:nvSpPr>
        <p:spPr>
          <a:xfrm>
            <a:off x="571680" y="785880"/>
            <a:ext cx="8001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Programa “EPES” Experiencias Profesionales para el empleo. 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porcionar a las personas desempleadas, practicas profesionales en empresas para acercarles al mundo laboral y favorecer su integración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: usuarios/as del programa Andalucía orienta que se encuentren desarrollando un IPI 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rácticas profesionales en empresas con tutorías de 2 meses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osibilidad de becas de hasta el 75% del SMI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2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3" name="4 CuadroTexto"/>
          <p:cNvSpPr/>
          <p:nvPr/>
        </p:nvSpPr>
        <p:spPr>
          <a:xfrm>
            <a:off x="500040" y="35712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marL="530280" indent="-530280">
              <a:lnSpc>
                <a:spcPct val="100000"/>
              </a:lnSpc>
              <a:tabLst>
                <a:tab algn="l" pos="0"/>
                <a:tab algn="l" pos="1165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4" name="6 Rectángulo"/>
          <p:cNvSpPr/>
          <p:nvPr/>
        </p:nvSpPr>
        <p:spPr>
          <a:xfrm>
            <a:off x="642960" y="714240"/>
            <a:ext cx="785808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2060"/>
                </a:solidFill>
                <a:latin typeface="Calibri"/>
              </a:rPr>
              <a:t>Programa  “GLOBALemplea” 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Perfil beneficiario/as: en situación regular e Irregular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formación y asesoramiento en extranjería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tinerarios personalizados de formación y de inserción laboral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compañamiento en la búsqueda de empleo.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Talleres de formación prelaboral: TBAE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Servicio de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Intermediación laboral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CAMPAÑA DE REVALORIZACIÓN DE EMPLEADAS DE HOGAR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     “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EMPLEADA, NI SIRVIENTA NI CRIADA”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7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88" name="4 CuadroTexto"/>
          <p:cNvSpPr/>
          <p:nvPr/>
        </p:nvSpPr>
        <p:spPr>
          <a:xfrm>
            <a:off x="285840" y="395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9" name="6 Rectángulo"/>
          <p:cNvSpPr/>
          <p:nvPr/>
        </p:nvSpPr>
        <p:spPr>
          <a:xfrm>
            <a:off x="285840" y="500040"/>
            <a:ext cx="8572320" cy="47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TALLER DE EMPLEO MEDIAINTER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Cualificación Profesional en Mediación Intercultural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QUE E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ixt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que combina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cciones de formación-emple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en actividades relacionadas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nuevos yacimient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de empleo de interés general y social, promovidos por entidades públicas o privadas sin ánimo de lucr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JUSTIFICACIÓN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Necesidad, de las personas de origen extranjero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reformular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su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erfil labor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a travé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la capacitación profesional ocupacional, y al mismo tiempo posibilita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diversifica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ocupaciones en el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rcado de trabaj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cesidad de contar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mediadores/as interculturales cualificados en la provincia de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ádiz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trabajar en diferentes ámbitos de intervención: comunitario, sanitario,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ducativo, laboral, jurídic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és de la entidad promotora de desarrolla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ciones formativa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en mediación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intercultural, acorde con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nuestra trayectoria de trabaj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11000 IS Africa Boceta Cecilio</cp:lastModifiedBy>
  <dcterms:modified xsi:type="dcterms:W3CDTF">2009-10-29T17:17:35Z</dcterms:modified>
  <cp:revision>143</cp:revision>
  <dc:subject/>
  <dc:title>Presentación de PowerPoint</dc:title>
</cp:coreProperties>
</file>