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21.jpeg" ContentType="image/jpeg"/>
  <Override PartName="/ppt/media/image19.wmf" ContentType="image/x-wmf"/>
  <Override PartName="/ppt/media/image9.jpeg" ContentType="image/jpeg"/>
  <Override PartName="/ppt/media/image17.wmf" ContentType="image/x-wmf"/>
  <Override PartName="/ppt/media/image24.jpeg" ContentType="image/jpeg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FFB-E419-4DB4-93CF-CB95C335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69-ADE6-4C90-9A7F-16616981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5B6-39A4-4858-B012-849C80C7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0A4-229F-4D62-AAC9-38A5F6BC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422-91B5-4701-9BBD-77972FB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715-FCF5-40BA-B7C2-71B142B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58D-1AD5-483B-B341-2F13E17F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1394-27EC-4362-AF61-D2653390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1BE3-505C-4D39-84BA-F7C0B196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85E-1B52-42A5-9F8B-EC32C08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B2C-8EE7-4300-A881-8C651782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C7A-2539-4030-A726-494BF56A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10E8-557A-4D1F-997F-471D6A354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7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package" Target="../embeddings/oleObject1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12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13.wmf"/><Relationship Id="rId11" Type="http://schemas.openxmlformats.org/officeDocument/2006/relationships/package" Target="../embeddings/oleObject4.xlsx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package" Target="../embeddings/oleObject1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package" Target="../embeddings/oleObject1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4.xlsx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6160" y="6006960"/>
            <a:ext cx="5146560" cy="50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6640" y="422748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744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5796000" y="6021360"/>
            <a:ext cx="3025440" cy="561960"/>
            <a:chOff x="5796000" y="6021360"/>
            <a:chExt cx="3025440" cy="561960"/>
          </a:xfrm>
        </p:grpSpPr>
        <p:pic>
          <p:nvPicPr>
            <p:cNvPr id="49" name="Picture 7" descr="Logo acceder nuevo"/>
            <p:cNvPicPr/>
            <p:nvPr/>
          </p:nvPicPr>
          <p:blipFill>
            <a:blip r:embed="rId4"/>
            <a:stretch/>
          </p:blipFill>
          <p:spPr>
            <a:xfrm>
              <a:off x="7314840" y="602136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8" descr="FSG-logo_territorios-1"/>
            <p:cNvPicPr/>
            <p:nvPr/>
          </p:nvPicPr>
          <p:blipFill>
            <a:blip r:embed="rId5"/>
            <a:stretch/>
          </p:blipFill>
          <p:spPr>
            <a:xfrm>
              <a:off x="5796000" y="602136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4065480" cy="401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6"/>
          <p:cNvGrpSpPr/>
          <p:nvPr/>
        </p:nvGrpSpPr>
        <p:grpSpPr>
          <a:xfrm>
            <a:off x="5651640" y="6165720"/>
            <a:ext cx="3025440" cy="561960"/>
            <a:chOff x="5651640" y="6165720"/>
            <a:chExt cx="3025440" cy="561960"/>
          </a:xfrm>
        </p:grpSpPr>
        <p:pic>
          <p:nvPicPr>
            <p:cNvPr id="55" name="Picture 7" descr="Logo acceder nuevo"/>
            <p:cNvPicPr/>
            <p:nvPr/>
          </p:nvPicPr>
          <p:blipFill>
            <a:blip r:embed="rId3"/>
            <a:stretch/>
          </p:blipFill>
          <p:spPr>
            <a:xfrm>
              <a:off x="7170480" y="6165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8" descr="FSG-logo_territorios-1"/>
            <p:cNvPicPr/>
            <p:nvPr/>
          </p:nvPicPr>
          <p:blipFill>
            <a:blip r:embed="rId4"/>
            <a:stretch/>
          </p:blipFill>
          <p:spPr>
            <a:xfrm>
              <a:off x="5651640" y="6165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87280" y="282600"/>
            <a:ext cx="7056720" cy="5586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492360" y="270828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8" descr="Imagen1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628560" y="276120"/>
            <a:ext cx="7543800" cy="5816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"/>
          <p:cNvGrpSpPr/>
          <p:nvPr/>
        </p:nvGrpSpPr>
        <p:grpSpPr>
          <a:xfrm>
            <a:off x="5651640" y="6165720"/>
            <a:ext cx="3025440" cy="561960"/>
            <a:chOff x="5651640" y="6165720"/>
            <a:chExt cx="3025440" cy="561960"/>
          </a:xfrm>
        </p:grpSpPr>
        <p:pic>
          <p:nvPicPr>
            <p:cNvPr id="64" name="Picture 7" descr="Logo acceder nuevo"/>
            <p:cNvPicPr/>
            <p:nvPr/>
          </p:nvPicPr>
          <p:blipFill>
            <a:blip r:embed="rId4"/>
            <a:stretch/>
          </p:blipFill>
          <p:spPr>
            <a:xfrm>
              <a:off x="7170480" y="6165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8" descr="FSG-logo_territorios-1"/>
            <p:cNvPicPr/>
            <p:nvPr/>
          </p:nvPicPr>
          <p:blipFill>
            <a:blip r:embed="rId5"/>
            <a:stretch/>
          </p:blipFill>
          <p:spPr>
            <a:xfrm>
              <a:off x="5651640" y="6165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50920" y="6237360"/>
            <a:ext cx="47527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68360" y="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6237360"/>
            <a:ext cx="4896000" cy="4842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6"/>
          <p:cNvGrpSpPr/>
          <p:nvPr/>
        </p:nvGrpSpPr>
        <p:grpSpPr>
          <a:xfrm>
            <a:off x="5651640" y="6165720"/>
            <a:ext cx="3025440" cy="561960"/>
            <a:chOff x="5651640" y="6165720"/>
            <a:chExt cx="3025440" cy="561960"/>
          </a:xfrm>
        </p:grpSpPr>
        <p:pic>
          <p:nvPicPr>
            <p:cNvPr id="71" name="Picture 7" descr="Logo acceder nuevo"/>
            <p:cNvPicPr/>
            <p:nvPr/>
          </p:nvPicPr>
          <p:blipFill>
            <a:blip r:embed="rId3"/>
            <a:stretch/>
          </p:blipFill>
          <p:spPr>
            <a:xfrm>
              <a:off x="7170480" y="6165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8" descr="FSG-logo_territorios-1"/>
            <p:cNvPicPr/>
            <p:nvPr/>
          </p:nvPicPr>
          <p:blipFill>
            <a:blip r:embed="rId4"/>
            <a:stretch/>
          </p:blipFill>
          <p:spPr>
            <a:xfrm>
              <a:off x="5651640" y="6165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3" name=""/>
          <p:cNvGraphicFramePr/>
          <p:nvPr/>
        </p:nvGraphicFramePr>
        <p:xfrm>
          <a:off x="250920" y="620640"/>
          <a:ext cx="3960720" cy="2244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620640"/>
                    <a:ext cx="396072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643280" y="549360"/>
          <a:ext cx="4034160" cy="2330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549360"/>
                    <a:ext cx="40341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788000" y="3335400"/>
          <a:ext cx="4062240" cy="2622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8000" y="3335400"/>
                    <a:ext cx="40622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79280" y="3357720"/>
          <a:ext cx="4467240" cy="25905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280" y="3357720"/>
                    <a:ext cx="44672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4065480" cy="4017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6"/>
          <p:cNvGrpSpPr/>
          <p:nvPr/>
        </p:nvGrpSpPr>
        <p:grpSpPr>
          <a:xfrm>
            <a:off x="5651640" y="6165720"/>
            <a:ext cx="3025440" cy="561960"/>
            <a:chOff x="5651640" y="6165720"/>
            <a:chExt cx="3025440" cy="561960"/>
          </a:xfrm>
        </p:grpSpPr>
        <p:pic>
          <p:nvPicPr>
            <p:cNvPr id="85" name="Picture 7" descr="Logo acceder nuevo"/>
            <p:cNvPicPr/>
            <p:nvPr/>
          </p:nvPicPr>
          <p:blipFill>
            <a:blip r:embed="rId3"/>
            <a:stretch/>
          </p:blipFill>
          <p:spPr>
            <a:xfrm>
              <a:off x="7170480" y="6165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8" descr="FSG-logo_territorios-1"/>
            <p:cNvPicPr/>
            <p:nvPr/>
          </p:nvPicPr>
          <p:blipFill>
            <a:blip r:embed="rId4"/>
            <a:stretch/>
          </p:blipFill>
          <p:spPr>
            <a:xfrm>
              <a:off x="5651640" y="6165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7" name=""/>
          <p:cNvGraphicFramePr/>
          <p:nvPr/>
        </p:nvGraphicFramePr>
        <p:xfrm>
          <a:off x="179280" y="404640"/>
          <a:ext cx="4962600" cy="2827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04640"/>
                    <a:ext cx="496260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995640" y="3213000"/>
          <a:ext cx="4880160" cy="2751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3213000"/>
                    <a:ext cx="488016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6165720"/>
            <a:ext cx="4065480" cy="4017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6"/>
          <p:cNvGrpSpPr/>
          <p:nvPr/>
        </p:nvGrpSpPr>
        <p:grpSpPr>
          <a:xfrm>
            <a:off x="5651640" y="6165720"/>
            <a:ext cx="3025440" cy="561960"/>
            <a:chOff x="5651640" y="6165720"/>
            <a:chExt cx="3025440" cy="561960"/>
          </a:xfrm>
        </p:grpSpPr>
        <p:pic>
          <p:nvPicPr>
            <p:cNvPr id="95" name="Picture 7" descr="Logo acceder nuevo"/>
            <p:cNvPicPr/>
            <p:nvPr/>
          </p:nvPicPr>
          <p:blipFill>
            <a:blip r:embed="rId3"/>
            <a:stretch/>
          </p:blipFill>
          <p:spPr>
            <a:xfrm>
              <a:off x="7170480" y="6165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8" descr="FSG-logo_territorios-1"/>
            <p:cNvPicPr/>
            <p:nvPr/>
          </p:nvPicPr>
          <p:blipFill>
            <a:blip r:embed="rId4"/>
            <a:stretch/>
          </p:blipFill>
          <p:spPr>
            <a:xfrm>
              <a:off x="5651640" y="6165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7" name=""/>
          <p:cNvGraphicFramePr/>
          <p:nvPr/>
        </p:nvGraphicFramePr>
        <p:xfrm>
          <a:off x="324000" y="549360"/>
          <a:ext cx="4032000" cy="1942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549360"/>
                    <a:ext cx="40320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716360" y="476280"/>
          <a:ext cx="3816360" cy="2001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76280"/>
                    <a:ext cx="381636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4000" y="3068640"/>
          <a:ext cx="3770280" cy="21636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000" y="3068640"/>
                    <a:ext cx="377028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643280" y="3068640"/>
          <a:ext cx="3673800" cy="21859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3068640"/>
                    <a:ext cx="36738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324000" y="3933720"/>
            <a:ext cx="3025440" cy="561960"/>
            <a:chOff x="324000" y="3933720"/>
            <a:chExt cx="3025440" cy="561960"/>
          </a:xfrm>
        </p:grpSpPr>
        <p:pic>
          <p:nvPicPr>
            <p:cNvPr id="122" name="Picture 7" descr="Logo acceder nuevo"/>
            <p:cNvPicPr/>
            <p:nvPr/>
          </p:nvPicPr>
          <p:blipFill>
            <a:blip r:embed="rId6"/>
            <a:stretch/>
          </p:blipFill>
          <p:spPr>
            <a:xfrm>
              <a:off x="1842840" y="3933720"/>
              <a:ext cx="150660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FSG-logo_territorios-1"/>
            <p:cNvPicPr/>
            <p:nvPr/>
          </p:nvPicPr>
          <p:blipFill>
            <a:blip r:embed="rId7"/>
            <a:stretch/>
          </p:blipFill>
          <p:spPr>
            <a:xfrm>
              <a:off x="324000" y="3933720"/>
              <a:ext cx="1325160" cy="56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fsg</cp:lastModifiedBy>
  <dcterms:modified xsi:type="dcterms:W3CDTF">2009-10-28T08:01:55Z</dcterms:modified>
  <cp:revision>79</cp:revision>
  <dc:subject/>
  <dc:title>Presentación de PowerPoint</dc:title>
</cp:coreProperties>
</file>