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5440" cy="375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967B-1470-4303-BB9C-20A24ACD08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FFFC-A146-4F82-AE53-0667D92F531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BC5C-2722-497A-9D7B-C6152FFE76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7168-FDAD-404F-A8BD-C6AAC4173D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C607-656C-43C3-9808-97B3C17030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FF4-DC0B-441D-895D-9CE31ECD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B89B-3898-4573-9E84-4FAE630A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4D2-AAF2-4216-98F5-DB6AE0E1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F92-8440-47C5-94D7-4E054518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D98-867E-411F-AC36-DAB0BF0B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6C2-5F6F-4ACA-8C1E-70F46238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754-381F-453D-A12C-902559CD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271-DC0C-4EBB-BB79-FF9527DE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789-516B-4DFC-86D3-BB98F022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2CE-DE35-4D55-A652-8A8D3504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1E2-CA57-457D-9023-1C3A489F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ADC-4A25-4F42-BC85-4CFE360E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3826-44A2-46D9-8B93-F07CA8B96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3" descr="13 banda grafismos"/>
          <p:cNvPicPr/>
          <p:nvPr/>
        </p:nvPicPr>
        <p:blipFill>
          <a:blip r:embed="rId1"/>
          <a:stretch/>
        </p:blipFill>
        <p:spPr>
          <a:xfrm>
            <a:off x="2484360" y="260280"/>
            <a:ext cx="4470480" cy="397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0"/>
          <p:cNvSpPr/>
          <p:nvPr/>
        </p:nvSpPr>
        <p:spPr>
          <a:xfrm>
            <a:off x="396720" y="3500280"/>
            <a:ext cx="74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Rockwell Condensed"/>
              </a:rPr>
              <a:t>Construyendo oportunidades para el empleo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51" name="Text Box 31"/>
          <p:cNvSpPr/>
          <p:nvPr/>
        </p:nvSpPr>
        <p:spPr>
          <a:xfrm>
            <a:off x="3924360" y="25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52" name="Picture 34" descr="Captura1"/>
          <p:cNvPicPr/>
          <p:nvPr/>
        </p:nvPicPr>
        <p:blipFill>
          <a:blip r:embed="rId3"/>
          <a:stretch/>
        </p:blipFill>
        <p:spPr>
          <a:xfrm>
            <a:off x="468360" y="5041800"/>
            <a:ext cx="2016000" cy="619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5"/>
          <p:cNvSpPr/>
          <p:nvPr/>
        </p:nvSpPr>
        <p:spPr>
          <a:xfrm>
            <a:off x="296640" y="4227480"/>
            <a:ext cx="56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Talleres de sensibilización de mujeres inmigrante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para combatir la discriminiza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397440" y="2776680"/>
            <a:ext cx="30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Programa de actividades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Cádiz, Viernes 30 de Octubre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57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Folio Light"/>
              </a:rPr>
              <a:t>La Asociación Cardij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9182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50"/>
              </a:spcBef>
              <a:spcAft>
                <a:spcPts val="5250"/>
              </a:spcAft>
              <a:buClr>
                <a:srgbClr val="000000"/>
              </a:buClr>
              <a:buFont typeface="Folio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olio Light"/>
              </a:rPr>
              <a:t>F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Folio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olio Light"/>
              </a:rPr>
              <a:t>Ámbitos de act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Folio Light"/>
              </a:rPr>
              <a:t>Juven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Folio Light"/>
              </a:rPr>
              <a:t>Formación y Emp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Folio Light"/>
              </a:rPr>
              <a:t>Inmi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3"/>
          <a:stretch/>
        </p:blipFill>
        <p:spPr>
          <a:xfrm>
            <a:off x="6012000" y="4797360"/>
            <a:ext cx="2247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63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Folio Light"/>
              </a:rPr>
              <a:t>Formación y Empl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3"/>
          <a:stretch/>
        </p:blipFill>
        <p:spPr>
          <a:xfrm>
            <a:off x="5586480" y="4656240"/>
            <a:ext cx="3378240" cy="1157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lio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olio Light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Taller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Cursos Formación Profesional Ocup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124"/>
              </a:spcAft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Experiencias mix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Folio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olio Light"/>
              </a:rPr>
              <a:t>Emp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Andalucía Ori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Experiencias Profesionales para el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Acciones Experi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Autoempleo: Emprend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69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Folio Light"/>
              </a:rPr>
              <a:t>Inmigración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Folio Ligh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Red de Atención a Inmigrantes del Secretariado Diocesano de Migraciones y Asociación Cardij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2492280"/>
            <a:ext cx="53262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lio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Folio Light"/>
              </a:rPr>
              <a:t>Serv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Punto de A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Servicio Juríd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Programa de “Acompañamiento para la Integración Social y Laboral de Personas Extranjer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Folio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olio Light"/>
              </a:rPr>
              <a:t>Programa de “Promoción Socio-laboral de Mujeres Inmigrant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3"/>
          <a:stretch/>
        </p:blipFill>
        <p:spPr>
          <a:xfrm>
            <a:off x="6156360" y="4076640"/>
            <a:ext cx="25272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8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75" name="Picture 65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Folio Light"/>
              </a:rPr>
              <a:t>Construyendo oportunidades para el Empl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000" y="2852640"/>
            <a:ext cx="806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6d4b4b"/>
                </a:solidFill>
                <a:latin typeface="Folio Light"/>
              </a:rPr>
              <a:t>“</a:t>
            </a:r>
            <a:r>
              <a:rPr b="1" i="1" lang="es-ES" sz="2200" spc="-1" strike="noStrike">
                <a:solidFill>
                  <a:srgbClr val="6d4b4b"/>
                </a:solidFill>
                <a:latin typeface="Folio Light"/>
              </a:rPr>
              <a:t>De nuestros miedos, nuestros coraj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6d4b4b"/>
                </a:solidFill>
                <a:latin typeface="Folio Light"/>
              </a:rPr>
              <a:t>y en la duda, nuestra certe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6d4b4b"/>
                </a:solidFill>
                <a:latin typeface="Folio Light"/>
              </a:rPr>
              <a:t>Los sueños anuncian otra realidad po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6d4b4b"/>
                </a:solidFill>
                <a:latin typeface="Folio Light"/>
              </a:rPr>
              <a:t>y los delirios otra raz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6d4b4b"/>
                </a:solidFill>
                <a:latin typeface="Folio Light"/>
              </a:rPr>
              <a:t>En los extravíos nos esperan nuestros hallazg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6d4b4b"/>
                </a:solidFill>
                <a:latin typeface="Folio Light"/>
              </a:rPr>
              <a:t>porque es necesario perderse para volver a encontrars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8"/>
          <p:cNvSpPr/>
          <p:nvPr/>
        </p:nvSpPr>
        <p:spPr>
          <a:xfrm>
            <a:off x="0" y="6156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2971800" y="5334120"/>
            <a:ext cx="3200400" cy="825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0"/>
          <p:cNvSpPr/>
          <p:nvPr/>
        </p:nvSpPr>
        <p:spPr>
          <a:xfrm>
            <a:off x="3657600" y="1447920"/>
            <a:ext cx="1752480" cy="3047760"/>
          </a:xfrm>
          <a:prstGeom prst="rect">
            <a:avLst/>
          </a:prstGeom>
          <a:solidFill>
            <a:srgbClr val="c000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3886200" y="1573200"/>
            <a:ext cx="160020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uman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arcial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utral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pendencia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luntariado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dad     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versalidad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83808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ockwell BoldCondensed"/>
              </a:rPr>
              <a:t>Titular de portada</a:t>
            </a:r>
            <a:endParaRPr b="0" lang="en-US" sz="4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992880" y="2438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ítulo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52280" y="6248520"/>
            <a:ext cx="883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0c1c"/>
                </a:solidFill>
                <a:latin typeface="Arial"/>
              </a:rPr>
              <a:t>Humanidad      Imparcialidad      Neutralidad      Independencia      Voluntariado      Unidad      Universalidad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324000" y="15573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Financiado por: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Colabora: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3200400" cy="82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Logo FSE II Periodo PO"/>
          <p:cNvPicPr/>
          <p:nvPr/>
        </p:nvPicPr>
        <p:blipFill>
          <a:blip r:embed="rId2"/>
          <a:stretch/>
        </p:blipFill>
        <p:spPr>
          <a:xfrm>
            <a:off x="3780000" y="2060640"/>
            <a:ext cx="2376360" cy="787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logo empleo"/>
          <p:cNvPicPr/>
          <p:nvPr/>
        </p:nvPicPr>
        <p:blipFill>
          <a:blip r:embed="rId3"/>
          <a:stretch/>
        </p:blipFill>
        <p:spPr>
          <a:xfrm>
            <a:off x="2916360" y="333360"/>
            <a:ext cx="3095640" cy="102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Captura"/>
          <p:cNvPicPr/>
          <p:nvPr/>
        </p:nvPicPr>
        <p:blipFill>
          <a:blip r:embed="rId4"/>
          <a:stretch/>
        </p:blipFill>
        <p:spPr>
          <a:xfrm>
            <a:off x="250920" y="2133720"/>
            <a:ext cx="2570040" cy="726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3" descr=""/>
          <p:cNvPicPr/>
          <p:nvPr/>
        </p:nvPicPr>
        <p:blipFill>
          <a:blip r:embed="rId5"/>
          <a:stretch/>
        </p:blipFill>
        <p:spPr>
          <a:xfrm>
            <a:off x="6443640" y="2205000"/>
            <a:ext cx="2289240" cy="64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4"/>
          <p:cNvSpPr/>
          <p:nvPr/>
        </p:nvSpPr>
        <p:spPr>
          <a:xfrm>
            <a:off x="250920" y="3429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Participa: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324000" y="299736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olio Light"/>
              </a:rPr>
              <a:t>Programa Operativo Plurirregional Lucha contra la Discriminación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94" name="Picture 7" descr="LOGOCARDIJN"/>
          <p:cNvPicPr/>
          <p:nvPr/>
        </p:nvPicPr>
        <p:blipFill>
          <a:blip r:embed="rId6"/>
          <a:srcRect l="0" t="21044" r="0" b="22258"/>
          <a:stretch/>
        </p:blipFill>
        <p:spPr>
          <a:xfrm>
            <a:off x="324000" y="3932280"/>
            <a:ext cx="1709640" cy="72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484360" y="3933720"/>
            <a:ext cx="10508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8:39:43Z</dcterms:created>
  <dc:creator>Ali Delgado</dc:creator>
  <dc:description/>
  <dc:language>en-US</dc:language>
  <cp:lastModifiedBy>Cardijn_2</cp:lastModifiedBy>
  <dcterms:modified xsi:type="dcterms:W3CDTF">2009-10-26T13:24:35Z</dcterms:modified>
  <cp:revision>76</cp:revision>
  <dc:subject/>
  <dc:title>Presentación de PowerPoint</dc:title>
</cp:coreProperties>
</file>