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2A66C-96D3-4C43-A55C-3B2EA4DA2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B0DCE-CB18-498F-B9A3-E8B6F00D0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9590E-74E1-4F6B-A992-202FC6FF3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453EC-8A2B-41B3-9784-B3967B0F1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F919C-DCEC-43BC-832B-FDC521313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34C11-E6D3-4C8B-B795-3C71E481E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B83B2-3B03-475B-B7F7-137E00C80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F653C-42C3-4B74-ADBA-3227FE021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2FACD-DA38-4DFB-BBA6-E367B63A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7A785-B30B-4510-AA74-DEA55D701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C099E-0AA8-43EE-B3DB-6D7938971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CF9F6-7440-48A0-8151-26150CCBC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8A19-67C6-44F7-BC04-1D195E2F45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84360" y="260280"/>
            <a:ext cx="4470480" cy="3975120"/>
          </a:xfrm>
          <a:prstGeom prst="rect">
            <a:avLst/>
          </a:prstGeom>
          <a:ln w="0">
            <a:noFill/>
          </a:ln>
        </p:spPr>
      </p:pic>
      <p:pic>
        <p:nvPicPr>
          <p:cNvPr id="42" name="" descr=""/>
          <p:cNvPicPr/>
          <p:nvPr/>
        </p:nvPicPr>
        <p:blipFill>
          <a:blip r:embed="rId2"/>
          <a:stretch/>
        </p:blipFill>
        <p:spPr>
          <a:xfrm>
            <a:off x="146160" y="5872320"/>
            <a:ext cx="8851680" cy="874440"/>
          </a:xfrm>
          <a:prstGeom prst="rect">
            <a:avLst/>
          </a:prstGeom>
          <a:ln w="0">
            <a:noFill/>
          </a:ln>
        </p:spPr>
      </p:pic>
      <p:sp>
        <p:nvSpPr>
          <p:cNvPr id="43" name=""/>
          <p:cNvSpPr/>
          <p:nvPr/>
        </p:nvSpPr>
        <p:spPr>
          <a:xfrm>
            <a:off x="324000" y="3141720"/>
            <a:ext cx="7414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Rockwell Condensed"/>
              </a:rPr>
              <a:t>Construyendo oportunidades para el empleo</a:t>
            </a:r>
            <a:endParaRPr b="0" lang="en-US" sz="3200" spc="-1" strike="noStrike">
              <a:solidFill>
                <a:srgbClr val="000000"/>
              </a:solidFill>
              <a:latin typeface="Times New Roman"/>
            </a:endParaRPr>
          </a:p>
        </p:txBody>
      </p:sp>
      <p:sp>
        <p:nvSpPr>
          <p:cNvPr id="44" name=""/>
          <p:cNvSpPr/>
          <p:nvPr/>
        </p:nvSpPr>
        <p:spPr>
          <a:xfrm>
            <a:off x="3924360" y="2565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3"/>
          <a:stretch/>
        </p:blipFill>
        <p:spPr>
          <a:xfrm>
            <a:off x="468360" y="5041800"/>
            <a:ext cx="2016000" cy="619200"/>
          </a:xfrm>
          <a:prstGeom prst="rect">
            <a:avLst/>
          </a:prstGeom>
          <a:ln w="0">
            <a:noFill/>
          </a:ln>
        </p:spPr>
      </p:pic>
      <p:sp>
        <p:nvSpPr>
          <p:cNvPr id="46" name=""/>
          <p:cNvSpPr/>
          <p:nvPr/>
        </p:nvSpPr>
        <p:spPr>
          <a:xfrm>
            <a:off x="186120" y="4227480"/>
            <a:ext cx="564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olio Light"/>
              </a:rPr>
              <a:t>Talleres de sensibilización de mujeres inmigran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olio Light"/>
              </a:rPr>
              <a:t>para combatir la discriminación</a:t>
            </a:r>
            <a:endParaRPr b="0" lang="en-US" sz="1800" spc="-1" strike="noStrike">
              <a:solidFill>
                <a:srgbClr val="000000"/>
              </a:solidFill>
              <a:latin typeface="Times New Roman"/>
            </a:endParaRPr>
          </a:p>
        </p:txBody>
      </p:sp>
      <p:sp>
        <p:nvSpPr>
          <p:cNvPr id="47" name=""/>
          <p:cNvSpPr/>
          <p:nvPr/>
        </p:nvSpPr>
        <p:spPr>
          <a:xfrm>
            <a:off x="432360" y="227664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Folio Light"/>
              </a:rPr>
              <a:t>Programa de activida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Folio Light"/>
              </a:rPr>
              <a:t>Cádiz, Viernes 30 de Octub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RIABLES QUE MODULAN LA EMPLEABILIDAD</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DA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hombres suelen ser preferidos para el trabajo en una franja etaria amplia, que puede ir desde los 20 años hasta los 30 y de los 31 a los 50 años, comenzando a tener mayores dificultades para encontrar empleo a partir de esta última edad. En cambio, cuando se trata de mujeres, se suele tener más en cuenta la edad, detectándose diferencias según franjas que pueden ir desde los 16 a los 25, de los 26 a los 30, de los 31 a los 45 y de los 46 en adelante, viéndose excluidas del mercado de trabajo antes que los hombres.</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lacionado con esto, en las mujeres se tiene más en cuenta la presencia física a la hora de ser contratad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65">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33300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NIVEL FORMATIVO</a:t>
            </a:r>
            <a:endParaRPr b="0" lang="en-US" sz="2400" spc="-1" strike="noStrike">
              <a:solidFill>
                <a:srgbClr val="000000"/>
              </a:solidFill>
              <a:latin typeface="Times New Roman"/>
            </a:endParaRPr>
          </a:p>
        </p:txBody>
      </p:sp>
      <p:sp>
        <p:nvSpPr>
          <p:cNvPr id="67" name="PlaceHolder 2"/>
          <p:cNvSpPr>
            <a:spLocks noGrp="1"/>
          </p:cNvSpPr>
          <p:nvPr>
            <p:ph/>
          </p:nvPr>
        </p:nvSpPr>
        <p:spPr>
          <a:xfrm>
            <a:off x="685800" y="1268280"/>
            <a:ext cx="777240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nivel formativo es determinante a la hora de optar para un empleo, pero en el caso de las personas extranjeras, no determina una inserción diferencial por sectores de actividad: por lo general, se les contrata </a:t>
            </a:r>
            <a:r>
              <a:rPr b="0" lang="es-ES_tradnl" sz="2400" spc="-1" strike="noStrike">
                <a:solidFill>
                  <a:srgbClr val="000000"/>
                </a:solidFill>
                <a:latin typeface="Arial"/>
              </a:rPr>
              <a:t>independientemente de su nivel de formación para realizar trabajos de baja cualific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formación es más determinante en el caso de las personas nativas, ya que suele ajustarse más al tipo de trabajo que van a realizar, sea éste de baja, media o alta cualific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gue habiendo muchas dificultades para que las personas migrantes puedan homologar sus titul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NIVEL DE FORMACIÓN</a:t>
            </a:r>
            <a:endParaRPr b="0" lang="en-US" sz="2400" spc="-1" strike="noStrike">
              <a:solidFill>
                <a:srgbClr val="000000"/>
              </a:solidFill>
              <a:latin typeface="Times New Roman"/>
            </a:endParaRPr>
          </a:p>
        </p:txBody>
      </p:sp>
      <p:sp>
        <p:nvSpPr>
          <p:cNvPr id="69"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an muchos casos en los que se prefiere a personas migrantes con alto nivel de cualificación, para ocupar puesto de grado medi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la crisis, los empresarios exigen tener algún tipo de titulación, algo que era menos común anteriorment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SIE han realizado una labor importante en la formación y especialización de las personas migrantes que no pueden demostrar su cualificación o su experiencia, pero algunos de los cursos que se ofrecen en la región, no aseguran la empleabilida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26028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GÉNERO</a:t>
            </a:r>
            <a:endParaRPr b="0" lang="en-US" sz="2800" spc="-1" strike="noStrike">
              <a:solidFill>
                <a:srgbClr val="000000"/>
              </a:solidFill>
              <a:latin typeface="Times New Roman"/>
            </a:endParaRPr>
          </a:p>
        </p:txBody>
      </p:sp>
      <p:sp>
        <p:nvSpPr>
          <p:cNvPr id="71" name="PlaceHolder 2"/>
          <p:cNvSpPr>
            <a:spLocks noGrp="1"/>
          </p:cNvSpPr>
          <p:nvPr>
            <p:ph/>
          </p:nvPr>
        </p:nvSpPr>
        <p:spPr>
          <a:xfrm>
            <a:off x="539640" y="1197000"/>
            <a:ext cx="8136000" cy="4898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es de la crisis, la empleabilidad de las mujeres migrantes ha estado caracterizada por la inserción en sectores informales, cuasiregulados y precarios.</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el tiempo, las mujeres migrantes han ido insertándose en empleos mejor regulados y de mayor cualificación.</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la crisis, se han mantenido mejor que los hombres en el mercado laboral pero se ha precarizado aún más su condición.</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mujeres con cargas familiares siguen siendo más rechazadas por el mercado laboral (lo que obliga a algunas mentir que no tienen hijos/as por ejemp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04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POLÍTICAS DE IGUALDAD, </a:t>
            </a:r>
            <a:br>
              <a:rPr sz="2400"/>
            </a:br>
            <a:r>
              <a:rPr b="0" lang="es-ES" sz="2400" spc="-1" strike="noStrike">
                <a:solidFill>
                  <a:srgbClr val="000000"/>
                </a:solidFill>
                <a:latin typeface="Times New Roman"/>
              </a:rPr>
              <a:t>LAS GRANDES DESCONOCIDAS</a:t>
            </a:r>
            <a:endParaRPr b="0" lang="en-US" sz="2400" spc="-1" strike="noStrike">
              <a:solidFill>
                <a:srgbClr val="000000"/>
              </a:solidFill>
              <a:latin typeface="Times New Roman"/>
            </a:endParaRPr>
          </a:p>
        </p:txBody>
      </p:sp>
      <p:sp>
        <p:nvSpPr>
          <p:cNvPr id="73"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se tiene conocimiento acerca de las Políticas de Igualdad, en algunos casos, sólo se conocen las relativas a la violencia de género.</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es elementos relativos a la igualdad sí son preocupación por parte de las mujer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necesidad de seguir contando con mujeres para resolver los problemas de conciliación que tienen cuando han reagrupado a sus hijos/as: otras mujeres migrantes, sus propias madres reagrupada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reconocimiento que hacen de su labor en la conciliación de las mujeres españolas, al hacerse cargo de las tareas reproductivas de la sociedad de acogida, algo de lo que son plenamente conscient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escasamente considerado que está el empleo de hogar y de los cuidados en la sociedad española, lo que se refleja en sus malas condiciones laborales y de salarios, y en su deficitaria regulació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Servicios Integrales de Empleo como factor de empleabilidad, pero sin la capacidad para hacer frente a los períodos de crisis económica</a:t>
            </a:r>
            <a:endParaRPr b="0" lang="en-US" sz="2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personas participantes en los talleres son conscientes de la “saturación” por la que están pasando algunos SIE. La demanda en formación y bolsa de empleo que hacen quienes acuden por primera vez, dificulta el seguimiento de los Itinerarios personalizados que ya se llevaban a cabo. Así mismo, estos itinerarios se alargan en el tiempo al no tener una salida laboral más pronta.</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MENDACION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yor énfasis en el apoyo a la homologación de las titulacione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ar los procedimientos de reconocimiento de la experiencia laboral, regulada mediante Real Decreto 1224/2009, aportando información, apoyo a la búsqueda de la documentación requerida y acompañamiento.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ar el microemprendimiento ofreciendo información, acompañando la producción de ideas innovadoras de negocio, intermediando con los bancos o entidades financieras que posibilitan los crédito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r y asesorar en materia de retorno asistido en coordinación con el área de inmigrantes de CRE u otras ent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MENDACIONE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jorar la intermediación laboral en relación a las mujeres mayores de 50 años y reforzar su formación prelaboral, poniendo énfasis en la mejora de su autoestima, seguridad personal y habilidades sociales.</a:t>
            </a:r>
            <a:r>
              <a:rPr b="0" lang="es-ES" sz="2400" spc="-1" strike="noStrike">
                <a:solidFill>
                  <a:srgbClr val="000000"/>
                </a:solidFill>
                <a:latin typeface="Arial"/>
              </a:rPr>
              <a:t>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levar a cabo un trabajo de abogacía social frente a los poderes públicos, junto a otras organizaciones del sector, con el fin de proponer una prolongación de los permisos de residencia y trabajo, aunque no se tenga un contrato laboral para tales efectos y hasta tanto poder obtenerl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poyar la formación de las mujeres para la obtención del carné de conducir.</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poyar la sindicación de las personas extranjera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MENDACIONES</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levar a cabo un trabajo de abogacía social, junto a otras organizaciones del sector, con el fin de solicitar que se vuelva a tener en cuenta la reforma de la normativa en relativa al empleo de hogar, paralizada durante 2008.</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oyar el fortalecimiento del tejido asociativo de las empleadas de hogar a través de acciones de formación en derechos, sesión de espacios, dinamización de grupos y refuerzo del liderazgo.</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levar a cabo acciones de reconocimiento de las empresas respetuosas con el derecho a la igualdad de oportunidades y a la conciliación, a través de premios, selección de Buenas Prácticas o certificaciones de organismos oficiales.</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sistir en la necesidad de no intermediar con Empresas de Trabajo Temporal, empresas de servicios o de proximidad que perpetúen a los y las trabajadoras en una situación de temporalidad y precariedad.</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COMENDACIONES</a:t>
            </a:r>
            <a:endParaRPr b="0" lang="en-US" sz="3200" spc="-1" strike="noStrike">
              <a:solidFill>
                <a:srgbClr val="000000"/>
              </a:solidFill>
              <a:latin typeface="Times New Roman"/>
            </a:endParaRPr>
          </a:p>
        </p:txBody>
      </p:sp>
      <p:sp>
        <p:nvSpPr>
          <p:cNvPr id="83" name="PlaceHolder 2"/>
          <p:cNvSpPr>
            <a:spLocks noGrp="1"/>
          </p:cNvSpPr>
          <p:nvPr>
            <p:ph/>
          </p:nvPr>
        </p:nvSpPr>
        <p:spPr>
          <a:xfrm>
            <a:off x="685440" y="1125360"/>
            <a:ext cx="8134200" cy="5328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jorar la coordinación intersectorial de los SIE con el fin de promover la movilidad geográfica de los y las trabajadoras a nivel estatal. Mejorar la bolsa de empleo estatal.</a:t>
            </a:r>
            <a:r>
              <a:rPr b="0" lang="es-E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ner énfasis en la empleabilidad de las mujeres gitanas, musulmanas, subsaharianas y afrolatinoamericanas, las más rechazas por el mercado labora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poyar la formación privada a través de becas de matriculació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dear espacios de diálogo y reflexión entre personas nativas y extranjeras (como los talleres de sensibilización), para que puedan poner de manifiesto las problemáticas que tienen en común en relación al empleo y generar procesos de fortalecimiento de redes conjuntas de apoyo mutuo, sobre todo en muje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1"/>
          <a:stretch/>
        </p:blipFill>
        <p:spPr>
          <a:xfrm>
            <a:off x="146160" y="5872320"/>
            <a:ext cx="8851680" cy="874440"/>
          </a:xfrm>
          <a:prstGeom prst="rect">
            <a:avLst/>
          </a:prstGeom>
          <a:ln w="0">
            <a:noFill/>
          </a:ln>
        </p:spPr>
      </p:pic>
      <p:sp>
        <p:nvSpPr>
          <p:cNvPr id="50" name=""/>
          <p:cNvSpPr/>
          <p:nvPr/>
        </p:nvSpPr>
        <p:spPr>
          <a:xfrm>
            <a:off x="539640" y="1323360"/>
            <a:ext cx="8209080" cy="3490560"/>
          </a:xfrm>
          <a:prstGeom prst="rect">
            <a:avLst/>
          </a:prstGeom>
          <a:noFill/>
          <a:ln w="0">
            <a:noFill/>
          </a:ln>
        </p:spPr>
        <p:style>
          <a:lnRef idx="0"/>
          <a:fillRef idx="0"/>
          <a:effectRef idx="0"/>
          <a:fontRef idx="minor"/>
        </p:style>
        <p:txBody>
          <a:bodyPr lIns="228600" rIns="90000" tIns="46800" bIns="46800" anchor="ctr">
            <a:spAutoFit/>
          </a:bodyPr>
          <a:p>
            <a:pPr marL="457200" indent="-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lio Light"/>
              </a:rPr>
              <a:t>OBJETIVOS DEL PROYECTO</a:t>
            </a:r>
            <a:endParaRPr b="0" lang="en-US" sz="2000" spc="-1" strike="noStrike">
              <a:solidFill>
                <a:srgbClr val="000000"/>
              </a:solidFill>
              <a:latin typeface="Times New Roman"/>
            </a:endParaRPr>
          </a:p>
          <a:p>
            <a:pPr marL="457200" indent="-457200">
              <a:lnSpc>
                <a:spcPct val="100000"/>
              </a:lnSpc>
              <a:buClr>
                <a:srgbClr val="000000"/>
              </a:buClr>
              <a:buFont typeface="Folio Light"/>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Folio Light"/>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lio Light"/>
              </a:rPr>
              <a:t>Servir como metodología para la sensibilización y la participación en los SIE.</a:t>
            </a:r>
            <a:endParaRPr b="0" lang="en-US" sz="2000" spc="-1" strike="noStrike">
              <a:solidFill>
                <a:srgbClr val="000000"/>
              </a:solidFill>
              <a:latin typeface="Times New Roman"/>
            </a:endParaRPr>
          </a:p>
          <a:p>
            <a:pPr marL="457200" indent="-457200">
              <a:lnSpc>
                <a:spcPct val="100000"/>
              </a:lnSpc>
              <a:buClr>
                <a:srgbClr val="000000"/>
              </a:buClr>
              <a:buFont typeface="Folio Light"/>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lio Light"/>
              </a:rPr>
              <a:t>Identificar la discriminación que sufren las mujeres en el entorno laboral.</a:t>
            </a:r>
            <a:endParaRPr b="0" lang="en-US" sz="2000" spc="-1" strike="noStrike">
              <a:solidFill>
                <a:srgbClr val="000000"/>
              </a:solidFill>
              <a:latin typeface="Times New Roman"/>
            </a:endParaRPr>
          </a:p>
          <a:p>
            <a:pPr marL="457200" indent="-457200">
              <a:lnSpc>
                <a:spcPct val="100000"/>
              </a:lnSpc>
              <a:buClr>
                <a:srgbClr val="000000"/>
              </a:buClr>
              <a:buFont typeface="Folio Light"/>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lio Light"/>
              </a:rPr>
              <a:t>Indagar en las posibilidades y/o dificultades para conciliar la vida laboral con la personal y familiar.</a:t>
            </a:r>
            <a:endParaRPr b="0" lang="en-US" sz="2000" spc="-1" strike="noStrike">
              <a:solidFill>
                <a:srgbClr val="000000"/>
              </a:solidFill>
              <a:latin typeface="Times New Roman"/>
            </a:endParaRPr>
          </a:p>
          <a:p>
            <a:pPr marL="457200" indent="-457200">
              <a:lnSpc>
                <a:spcPct val="100000"/>
              </a:lnSpc>
              <a:buClr>
                <a:srgbClr val="000000"/>
              </a:buClr>
              <a:buFont typeface="Folio Light"/>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lio Light"/>
              </a:rPr>
              <a:t>Analizar la percepción que se tiene respecto a las políticas públicas.</a:t>
            </a:r>
            <a:endParaRPr b="0" lang="en-US" sz="2000" spc="-1" strike="noStrike">
              <a:solidFill>
                <a:srgbClr val="000000"/>
              </a:solidFill>
              <a:latin typeface="Times New Roman"/>
            </a:endParaRPr>
          </a:p>
          <a:p>
            <a:pPr marL="457200" indent="-457200">
              <a:lnSpc>
                <a:spcPct val="100000"/>
              </a:lnSpc>
              <a:buClr>
                <a:srgbClr val="000000"/>
              </a:buClr>
              <a:buFont typeface="Folio Light"/>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lio Light"/>
              </a:rPr>
              <a:t>Evaluar los SI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615636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ww.cruzroja.es     902 22 22 92</a:t>
            </a:r>
            <a:endParaRPr b="0" lang="en-US" sz="1600" spc="-1" strike="noStrike">
              <a:solidFill>
                <a:srgbClr val="000000"/>
              </a:solidFill>
              <a:latin typeface="Times New Roman"/>
            </a:endParaRPr>
          </a:p>
        </p:txBody>
      </p:sp>
      <p:pic>
        <p:nvPicPr>
          <p:cNvPr id="85" name="" descr=""/>
          <p:cNvPicPr/>
          <p:nvPr/>
        </p:nvPicPr>
        <p:blipFill>
          <a:blip r:embed="rId1"/>
          <a:stretch/>
        </p:blipFill>
        <p:spPr>
          <a:xfrm>
            <a:off x="2971800" y="5334120"/>
            <a:ext cx="3200400" cy="825480"/>
          </a:xfrm>
          <a:prstGeom prst="rect">
            <a:avLst/>
          </a:prstGeom>
          <a:ln w="0">
            <a:noFill/>
          </a:ln>
        </p:spPr>
      </p:pic>
      <p:sp>
        <p:nvSpPr>
          <p:cNvPr id="86" name=""/>
          <p:cNvSpPr/>
          <p:nvPr/>
        </p:nvSpPr>
        <p:spPr>
          <a:xfrm>
            <a:off x="3657600" y="1447920"/>
            <a:ext cx="1752480" cy="3047760"/>
          </a:xfrm>
          <a:prstGeom prst="rect">
            <a:avLst/>
          </a:prstGeom>
          <a:solidFill>
            <a:srgbClr val="c0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86200" y="1573200"/>
            <a:ext cx="1600200" cy="31611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n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arcial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utral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pendencia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oluntariado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versalida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523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ockwell BoldCondensed"/>
              </a:rPr>
              <a:t>Titular de portada</a:t>
            </a:r>
            <a:endParaRPr b="0" lang="en-US" sz="4800" spc="-1" strike="noStrike">
              <a:solidFill>
                <a:srgbClr val="000000"/>
              </a:solidFill>
              <a:latin typeface="Times New Roman"/>
            </a:endParaRPr>
          </a:p>
        </p:txBody>
      </p:sp>
      <p:sp>
        <p:nvSpPr>
          <p:cNvPr id="89" name=""/>
          <p:cNvSpPr/>
          <p:nvPr/>
        </p:nvSpPr>
        <p:spPr>
          <a:xfrm>
            <a:off x="992880" y="243828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título</a:t>
            </a:r>
            <a:endParaRPr b="0" lang="en-US" sz="2400" spc="-1" strike="noStrike">
              <a:solidFill>
                <a:srgbClr val="000000"/>
              </a:solidFill>
              <a:latin typeface="Times New Roman"/>
            </a:endParaRPr>
          </a:p>
        </p:txBody>
      </p:sp>
      <p:sp>
        <p:nvSpPr>
          <p:cNvPr id="90" name=""/>
          <p:cNvSpPr/>
          <p:nvPr/>
        </p:nvSpPr>
        <p:spPr>
          <a:xfrm>
            <a:off x="152280" y="6248520"/>
            <a:ext cx="88394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0c1c"/>
                </a:solidFill>
                <a:latin typeface="Arial"/>
              </a:rPr>
              <a:t>Humanidad      Imparcialidad      Neutralidad      Independencia      Voluntariado      Unidad      Universalidad</a:t>
            </a:r>
            <a:endParaRPr b="0" lang="en-US" sz="1400" spc="-1" strike="noStrike">
              <a:solidFill>
                <a:srgbClr val="000000"/>
              </a:solidFill>
              <a:latin typeface="Times New Roman"/>
            </a:endParaRPr>
          </a:p>
        </p:txBody>
      </p:sp>
      <p:sp>
        <p:nvSpPr>
          <p:cNvPr id="91" name=""/>
          <p:cNvSpPr/>
          <p:nvPr/>
        </p:nvSpPr>
        <p:spPr>
          <a:xfrm>
            <a:off x="0" y="59436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ww.cruzroja.es     902 22 22 92</a:t>
            </a:r>
            <a:endParaRPr b="0" lang="en-US" sz="1600" spc="-1" strike="noStrike">
              <a:solidFill>
                <a:srgbClr val="000000"/>
              </a:solidFill>
              <a:latin typeface="Times New Roman"/>
            </a:endParaRPr>
          </a:p>
        </p:txBody>
      </p:sp>
      <p:sp>
        <p:nvSpPr>
          <p:cNvPr id="92" name=""/>
          <p:cNvSpPr/>
          <p:nvPr/>
        </p:nvSpPr>
        <p:spPr>
          <a:xfrm>
            <a:off x="324000" y="155736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lio Light"/>
              </a:rPr>
              <a:t>Financiado por:</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Colabora:</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2987640" y="5013360"/>
            <a:ext cx="3200400" cy="825480"/>
          </a:xfrm>
          <a:prstGeom prst="rect">
            <a:avLst/>
          </a:prstGeom>
          <a:ln w="0">
            <a:noFill/>
          </a:ln>
        </p:spPr>
      </p:pic>
      <p:pic>
        <p:nvPicPr>
          <p:cNvPr id="94" name="" descr=""/>
          <p:cNvPicPr/>
          <p:nvPr/>
        </p:nvPicPr>
        <p:blipFill>
          <a:blip r:embed="rId2"/>
          <a:stretch/>
        </p:blipFill>
        <p:spPr>
          <a:xfrm>
            <a:off x="3780000" y="2060640"/>
            <a:ext cx="2376360" cy="787320"/>
          </a:xfrm>
          <a:prstGeom prst="rect">
            <a:avLst/>
          </a:prstGeom>
          <a:ln w="0">
            <a:noFill/>
          </a:ln>
        </p:spPr>
      </p:pic>
      <p:pic>
        <p:nvPicPr>
          <p:cNvPr id="95" name="" descr=""/>
          <p:cNvPicPr/>
          <p:nvPr/>
        </p:nvPicPr>
        <p:blipFill>
          <a:blip r:embed="rId3"/>
          <a:stretch/>
        </p:blipFill>
        <p:spPr>
          <a:xfrm>
            <a:off x="2916360" y="333360"/>
            <a:ext cx="3095640" cy="1025640"/>
          </a:xfrm>
          <a:prstGeom prst="rect">
            <a:avLst/>
          </a:prstGeom>
          <a:ln w="0">
            <a:noFill/>
          </a:ln>
        </p:spPr>
      </p:pic>
      <p:pic>
        <p:nvPicPr>
          <p:cNvPr id="96" name="" descr=""/>
          <p:cNvPicPr/>
          <p:nvPr/>
        </p:nvPicPr>
        <p:blipFill>
          <a:blip r:embed="rId4"/>
          <a:stretch/>
        </p:blipFill>
        <p:spPr>
          <a:xfrm>
            <a:off x="250920" y="2133720"/>
            <a:ext cx="2570040" cy="726840"/>
          </a:xfrm>
          <a:prstGeom prst="rect">
            <a:avLst/>
          </a:prstGeom>
          <a:ln w="0">
            <a:noFill/>
          </a:ln>
        </p:spPr>
      </p:pic>
      <p:pic>
        <p:nvPicPr>
          <p:cNvPr id="97" name="" descr=""/>
          <p:cNvPicPr/>
          <p:nvPr/>
        </p:nvPicPr>
        <p:blipFill>
          <a:blip r:embed="rId5"/>
          <a:stretch/>
        </p:blipFill>
        <p:spPr>
          <a:xfrm>
            <a:off x="6443640" y="2205000"/>
            <a:ext cx="2289240" cy="649440"/>
          </a:xfrm>
          <a:prstGeom prst="rect">
            <a:avLst/>
          </a:prstGeom>
          <a:ln w="0">
            <a:noFill/>
          </a:ln>
        </p:spPr>
      </p:pic>
      <p:sp>
        <p:nvSpPr>
          <p:cNvPr id="98" name=""/>
          <p:cNvSpPr/>
          <p:nvPr/>
        </p:nvSpPr>
        <p:spPr>
          <a:xfrm>
            <a:off x="324000" y="2997360"/>
            <a:ext cx="77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olio Light"/>
              </a:rPr>
              <a:t>Programa Operativo Plurirregional Lucha contra la Discrimin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04280"/>
            <a:ext cx="77724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ETODOLOGIA</a:t>
            </a:r>
            <a:endParaRPr b="0" lang="en-US" sz="3200" spc="-1" strike="noStrike">
              <a:solidFill>
                <a:srgbClr val="000000"/>
              </a:solidFill>
              <a:latin typeface="Times New Roman"/>
            </a:endParaRPr>
          </a:p>
        </p:txBody>
      </p:sp>
      <p:sp>
        <p:nvSpPr>
          <p:cNvPr id="52" name="PlaceHolder 2"/>
          <p:cNvSpPr>
            <a:spLocks noGrp="1"/>
          </p:cNvSpPr>
          <p:nvPr>
            <p:ph/>
          </p:nvPr>
        </p:nvSpPr>
        <p:spPr>
          <a:xfrm>
            <a:off x="611280" y="1341000"/>
            <a:ext cx="8137440" cy="47545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llevaron a cabo 20 talleres de autoexpresión en 10 provincias de España. En cada una, se hicieron dos grupos de similares características:</a:t>
            </a:r>
            <a:endParaRPr b="0" lang="en-US" sz="2800" spc="-1" strike="noStrike">
              <a:solidFill>
                <a:srgbClr val="000000"/>
              </a:solidFill>
              <a:latin typeface="Times New Roman"/>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grupo de personas formado por participantes de los SIE de Cruz Roja Española, a través de su Red Interlabor@ y con un itinerario personalizado de empleo.</a:t>
            </a:r>
            <a:endParaRPr b="0" lang="en-US" sz="2000" spc="-1" strike="noStrike">
              <a:solidFill>
                <a:srgbClr val="000000"/>
              </a:solidFill>
              <a:latin typeface="Times New Roman"/>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grupo de personas que no participan en los itinerarios personalizados de empleo de la Red Interlabor@ (llamado grupo de control).</a:t>
            </a:r>
            <a:endParaRPr b="0" lang="en-US" sz="2000" spc="-1" strike="noStrike">
              <a:solidFill>
                <a:srgbClr val="000000"/>
              </a:solidFill>
              <a:latin typeface="Times New Roman"/>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resultado ha sido la participación de un total de 223 personas, 182 mujeres y 41 hombr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042920" y="492120"/>
          <a:ext cx="6985080" cy="5312880"/>
        </p:xfrm>
        <a:graphic>
          <a:graphicData uri="http://schemas.openxmlformats.org/drawingml/2006/table">
            <a:tbl>
              <a:tblPr/>
              <a:tblGrid>
                <a:gridCol w="1657440"/>
                <a:gridCol w="2158920"/>
                <a:gridCol w="1582920"/>
                <a:gridCol w="1585800"/>
              </a:tblGrid>
              <a:tr h="504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1" lang="es-ES_tradnl" sz="1100" spc="-1" strike="noStrike">
                          <a:solidFill>
                            <a:srgbClr val="ff9900"/>
                          </a:solidFill>
                          <a:latin typeface="Arial"/>
                          <a:ea typeface="Times New Roman"/>
                        </a:rPr>
                        <a:t>OFICINA TERRITORIA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9900"/>
                          </a:solidFill>
                          <a:latin typeface="Arial"/>
                          <a:ea typeface="Times New Roman"/>
                        </a:rPr>
                        <a:t>RANGOS DE EDAD</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9900"/>
                          </a:solidFill>
                          <a:latin typeface="Arial"/>
                          <a:ea typeface="Times New Roman"/>
                        </a:rPr>
                        <a:t>NIVEL DE ESTUDI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9900"/>
                          </a:solidFill>
                          <a:latin typeface="Arial"/>
                          <a:ea typeface="Times New Roman"/>
                        </a:rPr>
                        <a:t>FECHAS definitivas y horari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ALMA DE MALLORCA</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yores de 50 añ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in estudi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14 de abr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VIEDO</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yores de 50 añ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ecundaria</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0 y 21 de abr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LEDO</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yores de 30 y menores de 40 añ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ecundarios obligatori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2 de abr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GUADALAJARA</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yores de 30 y menores de 40 añ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ecundaria</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4 de abr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ASTELLÓN</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yores de 30 y menores de 40 añ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niversitari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3 y 24 de abr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URENSE</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yores de 40 y menores de 50 añ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ecundaria</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7 y 28 de abril</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HUESCA</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yores de 40 y menores de 50 añ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in estudi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y 5 de mayo</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ALAVERA DE LA REINA</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yores de 30 y menores de 40 añ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in estudi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7 de mayo</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HUELVA</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yores de 20 y menores de 3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niversitari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3  y 4 de junio </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ADIZ</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yores de 20 y menores de 30</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ecundarios obligatorios</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2 de junio</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60280"/>
            <a:ext cx="798984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RISIS ECONÓMICA EN ESPAÑA: LA GRAN PROTAGONISTA</a:t>
            </a:r>
            <a:endParaRPr b="0" lang="en-US" sz="2400" spc="-1" strike="noStrike">
              <a:solidFill>
                <a:srgbClr val="000000"/>
              </a:solidFill>
              <a:latin typeface="Times New Roman"/>
            </a:endParaRPr>
          </a:p>
        </p:txBody>
      </p:sp>
      <p:sp>
        <p:nvSpPr>
          <p:cNvPr id="55"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DESEMPLE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efecto de la crisis económica en el desempleo de los y las migrantes: </a:t>
            </a:r>
            <a:r>
              <a:rPr b="0" lang="es-ES_tradnl" sz="1600" spc="-1" strike="noStrike">
                <a:solidFill>
                  <a:srgbClr val="000000"/>
                </a:solidFill>
                <a:latin typeface="Arial"/>
              </a:rPr>
              <a:t>el desempleo ha pasado del 8,6%, a finales de 2007, al 13,9% a finales de 2008. Pero ha afectado más a extranjeros que a nativos. En 2008, la población española llegó a tener una tasa de paro del 12,5%, mientras que el paro en la población extranjera ascendió al 21,3%.</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 cuanto al género, en la población nativa, el paro afectó en mayor medida a las mujeres (14,1%) que a los hombres (11,3%). Entre migrantes, el paro afectó más a los hombres, aunque levemente (21,9% para ellos y 20,5% para ellas). </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isis paralizó el sector de la construcción, con el paso de los meses, durante 2008, fue repercutiendo en el sector industrial y en el sector servicios</a:t>
            </a:r>
            <a:r>
              <a:rPr b="0" lang="es-ES" sz="1600" spc="-1" strike="noStrike">
                <a:solidFill>
                  <a:srgbClr val="000000"/>
                </a:solidFill>
                <a:latin typeface="Arial"/>
              </a:rPr>
              <a:t> </a:t>
            </a:r>
            <a:r>
              <a:rPr b="0" lang="es-ES_tradnl" sz="1600" spc="-1" strike="noStrike">
                <a:solidFill>
                  <a:srgbClr val="000000"/>
                </a:solidFill>
                <a:latin typeface="Arial"/>
              </a:rPr>
              <a:t>(fábricas, el consumo, el comercio, el turismo). En estos sectores, fueron los españoles y las españolas las que también perdieron en ocupació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desempleo afectó a los sectores de baja cualificación y, por tanto, de quienes los ocupa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paro ha afectado y ha crecido de forma más rápida en los o las principales sustentadoras de la familia.</a:t>
            </a:r>
            <a:r>
              <a:rPr b="0" lang="es-ES" sz="1600" spc="-1" strike="noStrike">
                <a:solidFill>
                  <a:srgbClr val="000000"/>
                </a:solidFill>
                <a:latin typeface="Arial"/>
              </a:rPr>
              <a:t> </a:t>
            </a:r>
            <a:r>
              <a:rPr b="0" lang="es-ES_tradnl" sz="1600" spc="-1" strike="noStrike">
                <a:solidFill>
                  <a:srgbClr val="000000"/>
                </a:solidFill>
                <a:latin typeface="Arial"/>
              </a:rPr>
              <a:t>Preocupante es también la situación de las familias donde el paro ha afectado a todos sus miembros activ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olocación de las personas desempleadas</a:t>
            </a:r>
            <a:endParaRPr b="0" lang="en-US" sz="2800" spc="-1" strike="noStrike">
              <a:solidFill>
                <a:srgbClr val="000000"/>
              </a:solidFill>
              <a:latin typeface="Times New Roman"/>
            </a:endParaRPr>
          </a:p>
        </p:txBody>
      </p:sp>
      <p:sp>
        <p:nvSpPr>
          <p:cNvPr id="57" name="PlaceHolder 2"/>
          <p:cNvSpPr>
            <a:spLocks noGrp="1"/>
          </p:cNvSpPr>
          <p:nvPr>
            <p:ph/>
          </p:nvPr>
        </p:nvSpPr>
        <p:spPr>
          <a:xfrm>
            <a:off x="685800" y="1125360"/>
            <a:ext cx="7772400" cy="51832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partir de finales de 2008, algunas personas desempleadas se recolocan. Este proceso es más difícil para quienes tienen un nivel formativo bajo (sin estudios o con estudios primarios o secundarios sin acabar), ya que la recolocación se da en los niveles de cualificación media o alta</a:t>
            </a:r>
            <a:r>
              <a:rPr b="0" lang="es-ES" sz="2000" spc="-1" strike="noStrike">
                <a:solidFill>
                  <a:srgbClr val="000000"/>
                </a:solidFill>
                <a:latin typeface="Arial"/>
              </a:rPr>
              <a:t>.</a:t>
            </a:r>
            <a:endParaRPr b="0" lang="en-US" sz="2000" spc="-1" strike="noStrike">
              <a:solidFill>
                <a:srgbClr val="000000"/>
              </a:solidFill>
              <a:latin typeface="Times New Roman"/>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opción para muchas mujeres migrantes con nivel bajo de formación está siendo el retorno al servicio doméstico en las modalidades de interna y por horas. Este sector no ha sufrido variaciones en el número de cotizantes durante 2008 y 2009, pero sí se ha visto afectado en diversos sentidos:</a:t>
            </a:r>
            <a:endParaRPr b="0" lang="en-US" sz="20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as negociaciones orales del contrato: rebajar horas, quitar el pago de la Seguridad Social, cambio de la jornada laboral continua por una discontinua.</a:t>
            </a:r>
            <a:endParaRPr b="0" lang="en-US" sz="18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spidos: algunas familias nativas vuelven a hacerse cargo de las dependencias.</a:t>
            </a:r>
            <a:endParaRPr b="0" lang="en-US" sz="1800" spc="-1" strike="noStrike">
              <a:solidFill>
                <a:srgbClr val="000000"/>
              </a:solidFill>
              <a:latin typeface="Times New Roman"/>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ontratación no formal de otra empleada a la que se le pagará menos que a la anterior, aunque no tenga la documentación en regla.</a:t>
            </a:r>
            <a:endParaRPr b="0" lang="en-US" sz="18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decir, la crisis está suponiendo un retroceso de los exiguos progresos que venía teniendo el empleo con base en el hogar</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33360"/>
            <a:ext cx="77724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rebaja de las condiciones laborales</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125360"/>
            <a:ext cx="7989840" cy="5399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retroceso de las condiciones laborales se está dando también en otros sectores, como la industria, la hostelería, el comercio, el turismo, la restauración… Las empresas llevan a cabo diversas estrategias para afrontar la crisis</a:t>
            </a:r>
            <a:r>
              <a:rPr b="0" lang="es-E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pedir a una parte de la plantilla y aumentar las horas de trabajo de los o las que se quedan para cubrir la jornada. El temor de quienes se quedan les hace aceptar esta nueva condició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pedir a toda la plantilla y después volver a contratar otra distinta con condiciones laborales más precarias y acogiéndose a los programas de fomento del empleo que se han dispuesto para este período crítico.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ar en mayor medida con las Empresas de Trabajo Temporal como proveedoras de mano de obra temporal, de bajo sueldo, con el que no se tienen fuertes compromisos de contratación y, por tanto, de rescisión de contrato.</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pedir a trabajadores y volverlos a llamar para que trabajen pero esta vez sin contrato. Se les dice que esto les beneficiará porque cobrarán el subsidio de desempleo y el salario al mismo tiem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ecuencias en los y las trabajadoras</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geográfica: mayor disposición por parte de personas extranjeras para buscar trabajo en otras regiones y paí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nsar en la posibilidad del retorno al país de origen, aunque esta decisión entraña muchas dificultad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minución de las remes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gotamiento de las prestaciones por desemple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ficultad para renovar la documentación en Españ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troceso en las condiciones de la viviend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yor recurrencia a los servicios sociales y a los recursos de O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ecuencias en las mujeres migrantes</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distribución de las funciones familiares en hogares donde sólo trabaja la mujer en el servicio doméstico (incluyendo el retorno de los hijos/as al país de origen). También algunas tensiones familiar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corte en sus jornadas laborales cuando trabajan en el servicio doméstico y de cuidado. Intermitencia y rotación laboral, pago de la Seguridad Social por cuenta prop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ratación de mujeres en puestos donde antes se prefería a hombres, con la idea de que ellas aceptarán cualquier condición laboral y son menos problemática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los SIE, aumento de demandas de empleo por parte de mujeres reagrupadas que no tienen el permiso de traba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8:39:43Z</dcterms:created>
  <dc:creator>Ali Delgado</dc:creator>
  <dc:description/>
  <dc:language>en-US</dc:language>
  <cp:lastModifiedBy>Silvina Monteros Obelar</cp:lastModifiedBy>
  <dcterms:modified xsi:type="dcterms:W3CDTF">2009-10-29T20:39:06Z</dcterms:modified>
  <cp:revision>95</cp:revision>
  <dc:subject/>
  <dc:title>Presentación de PowerPoint</dc:title>
</cp:coreProperties>
</file>