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BFD-481E-46E5-8838-55AC29EC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3E3-9E4F-48A7-9D98-A0E546E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B9A-A198-4DFF-835A-941B30BF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D0E-FABD-4D9C-AB31-E2961C66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2853-5A8C-4703-A791-1EABF435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EDF-B5D6-4F0C-9B26-AB658D57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BE9-9140-4EF7-99B2-F0A2FCB5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913D-6817-4A23-AFCE-296A0E07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3F74-D696-49A5-92F5-CA21510A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3D3D-4339-4D75-A676-1B2879D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F7B7-A8CB-4CE0-89C4-669B72D0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419-C7D8-41B5-9D07-80DBDD2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6C9F-CA3D-446A-BA28-38816D0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F188-AEE0-4943-A71D-C5A6668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BE7E-4DE4-4F52-931A-0D16765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C1C-95A5-4194-B611-A758680C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54E9-D0FA-4753-893D-EF803230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B1A-E1E7-41F0-88E3-585D53BB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58D-1DEE-44BE-867F-CEE1657B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A89-A4C5-41B7-B85B-BAB0A0DF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7EF-47CB-4F62-BF8C-6EB1738A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F18-C474-4450-B00B-C76BA6D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F0B-ECB8-4392-98BE-7E59735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B0B-2C8C-46A0-A50E-9F28238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67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304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-41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2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1880" indent="-27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46600" indent="-27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46600" indent="-27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46600" indent="-27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6C15-453D-41CC-9A0E-3E7A2277315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0" t="0" r="0" b="50808"/>
          <a:stretch/>
        </p:blipFill>
        <p:spPr>
          <a:xfrm>
            <a:off x="1612800" y="260280"/>
            <a:ext cx="5335560" cy="504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rcRect l="0" t="49228" r="48708" b="0"/>
          <a:stretch/>
        </p:blipFill>
        <p:spPr>
          <a:xfrm>
            <a:off x="2916360" y="765000"/>
            <a:ext cx="2736720" cy="520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11280" y="1197000"/>
            <a:ext cx="79930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Rockwell"/>
              </a:rPr>
              <a:t>Datos de empleo en la provincia de Hue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Rockwell"/>
              </a:rPr>
              <a:t>Fuente: TG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981000"/>
            <a:ext cx="544320" cy="649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Rockwell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920D-EF3A-41FF-9DFC-0DB0AFA805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114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7520"/>
            <a:ext cx="3276720" cy="258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256536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Datos de empleo en la provincia de Hues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740720" y="2637000"/>
            <a:ext cx="90648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Rockwell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Rockwel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95640" y="1628280"/>
            <a:ext cx="4464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Arial"/>
              </a:rPr>
              <a:t>Cotiz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140360" y="220500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2565360"/>
          <a:ext cx="7274160" cy="3672000"/>
        </p:xfrm>
        <a:graphic>
          <a:graphicData uri="http://schemas.openxmlformats.org/drawingml/2006/table">
            <a:tbl>
              <a:tblPr/>
              <a:tblGrid>
                <a:gridCol w="1795680"/>
                <a:gridCol w="1825560"/>
                <a:gridCol w="1827360"/>
                <a:gridCol w="18255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RABAJADORES EN AC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ERCEPTORES DE 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RABAJADORES COTIZ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2.8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0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2.5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2.0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.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.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9.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2.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9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3.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5.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4.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2.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1.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.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.82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8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.76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.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,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0,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92200" y="2876400"/>
          <a:ext cx="8227800" cy="3792600"/>
        </p:xfrm>
        <a:graphic>
          <a:graphicData uri="http://schemas.openxmlformats.org/drawingml/2006/table">
            <a:tbl>
              <a:tblPr/>
              <a:tblGrid>
                <a:gridCol w="2089080"/>
                <a:gridCol w="2046240"/>
                <a:gridCol w="2046240"/>
                <a:gridCol w="2046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RABAJADORES EN AC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ERCEPTORES DE DESEMP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RABAJADORES COTIZ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.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5.8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.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.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.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.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.3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.6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9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.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3.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6.9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5.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9.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.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4.2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4.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6.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.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3.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0.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0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,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,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195640" y="1628640"/>
            <a:ext cx="446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Arial"/>
              </a:rPr>
              <a:t>Cotiz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19640" y="2421000"/>
            <a:ext cx="2000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anteri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774800"/>
            <a:ext cx="8425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atos comparados de trabajadores españoles y ext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925720"/>
          <a:ext cx="7932600" cy="3672000"/>
        </p:xfrm>
        <a:graphic>
          <a:graphicData uri="http://schemas.openxmlformats.org/drawingml/2006/table">
            <a:tbl>
              <a:tblPr/>
              <a:tblGrid>
                <a:gridCol w="1655640"/>
                <a:gridCol w="1046160"/>
                <a:gridCol w="1046160"/>
                <a:gridCol w="1046160"/>
                <a:gridCol w="1046160"/>
                <a:gridCol w="1046160"/>
                <a:gridCol w="10461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UTÓNOM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G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SOBR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.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6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.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.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.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.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.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.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3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7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.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7,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.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.9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6,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6,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7,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7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377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50%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.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.8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,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,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,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0,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,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>
            <a:off x="3635280" y="2610000"/>
            <a:ext cx="1285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Españoles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51280" y="213372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8920" y="1774800"/>
            <a:ext cx="8425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atos comparados de trabajadores españoles y ext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5280" y="2610000"/>
            <a:ext cx="1285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Extranjeros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51280" y="213372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2997360"/>
          <a:ext cx="7848360" cy="3671640"/>
        </p:xfrm>
        <a:graphic>
          <a:graphicData uri="http://schemas.openxmlformats.org/drawingml/2006/table">
            <a:tbl>
              <a:tblPr/>
              <a:tblGrid>
                <a:gridCol w="1687320"/>
                <a:gridCol w="1028880"/>
                <a:gridCol w="1025280"/>
                <a:gridCol w="1027440"/>
                <a:gridCol w="1027080"/>
                <a:gridCol w="1025280"/>
                <a:gridCol w="10270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UTÓNOM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G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SOBR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9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8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.5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2,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.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2,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.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3,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.3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3,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8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.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76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44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50%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4,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8,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,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774800"/>
            <a:ext cx="8425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atos comparados de trabajadores españoles y ext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35280" y="2610000"/>
            <a:ext cx="1285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Españoles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59280" y="2133720"/>
            <a:ext cx="2228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1999 a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997360"/>
          <a:ext cx="7797960" cy="3671640"/>
        </p:xfrm>
        <a:graphic>
          <a:graphicData uri="http://schemas.openxmlformats.org/drawingml/2006/table">
            <a:tbl>
              <a:tblPr/>
              <a:tblGrid>
                <a:gridCol w="1959120"/>
                <a:gridCol w="906480"/>
                <a:gridCol w="1177920"/>
                <a:gridCol w="906480"/>
                <a:gridCol w="907920"/>
                <a:gridCol w="1031760"/>
                <a:gridCol w="90828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UTÓNOM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G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SOBR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.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.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.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8,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9.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.7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.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7,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1.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5.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7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2.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.5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5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3.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9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.9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4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.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.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3,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7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.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0,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.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.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9,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.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5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3.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88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.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6.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,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90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4,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,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8920" y="1774800"/>
            <a:ext cx="8425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atos comparados de trabajadores españoles y ext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635280" y="2610000"/>
            <a:ext cx="1285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Extranjeros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59280" y="2133720"/>
            <a:ext cx="2228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1999 a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2997360"/>
          <a:ext cx="7797600" cy="3671640"/>
        </p:xfrm>
        <a:graphic>
          <a:graphicData uri="http://schemas.openxmlformats.org/drawingml/2006/table">
            <a:tbl>
              <a:tblPr/>
              <a:tblGrid>
                <a:gridCol w="1890720"/>
                <a:gridCol w="938160"/>
                <a:gridCol w="1135080"/>
                <a:gridCol w="936360"/>
                <a:gridCol w="935280"/>
                <a:gridCol w="1023840"/>
                <a:gridCol w="9381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UTÓNOM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R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G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SOBR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2,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7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3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4,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5,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6,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9,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5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0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7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0,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.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IEMBRE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80"/>
                          </a:solidFill>
                          <a:latin typeface="Century Gothic"/>
                          <a:ea typeface="Arial"/>
                        </a:rPr>
                        <a:t>11,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17,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9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8,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9,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5,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18464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filiación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98560" y="2421000"/>
          <a:ext cx="6913440" cy="4211640"/>
        </p:xfrm>
        <a:graphic>
          <a:graphicData uri="http://schemas.openxmlformats.org/drawingml/2006/table">
            <a:tbl>
              <a:tblPr/>
              <a:tblGrid>
                <a:gridCol w="1608120"/>
                <a:gridCol w="984240"/>
                <a:gridCol w="792000"/>
                <a:gridCol w="903600"/>
                <a:gridCol w="792000"/>
                <a:gridCol w="790560"/>
                <a:gridCol w="104292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ROVINCIA DE HU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AI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/10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UM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RUE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OL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UCR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RGE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ESTO PAI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7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.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.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volución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2438280"/>
          <a:ext cx="3960720" cy="20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438280"/>
                    <a:ext cx="3960720" cy="20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788000" y="2435400"/>
          <a:ext cx="3987720" cy="20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35400"/>
                    <a:ext cx="398772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50920" y="4653000"/>
          <a:ext cx="3989160" cy="1906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653000"/>
                    <a:ext cx="39891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88000" y="4683240"/>
          <a:ext cx="3965400" cy="1841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683240"/>
                    <a:ext cx="39654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volución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2360" y="2441520"/>
          <a:ext cx="3959280" cy="18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2441520"/>
                    <a:ext cx="395928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24000" y="4616280"/>
          <a:ext cx="3956040" cy="190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616280"/>
                    <a:ext cx="395604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30840" y="2454120"/>
          <a:ext cx="3989160" cy="1873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30840" y="2454120"/>
                    <a:ext cx="398916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859280" y="4653000"/>
          <a:ext cx="3965760" cy="1882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653000"/>
                    <a:ext cx="39657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volución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2360" y="2441520"/>
          <a:ext cx="3794040" cy="20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2441520"/>
                    <a:ext cx="37940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788000" y="2435400"/>
          <a:ext cx="3987720" cy="20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35400"/>
                    <a:ext cx="398772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50920" y="4762440"/>
          <a:ext cx="3744720" cy="1906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4762440"/>
                    <a:ext cx="37447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40384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égime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0360" y="220500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44720" y="2687760"/>
          <a:ext cx="6767280" cy="3549600"/>
        </p:xfrm>
        <a:graphic>
          <a:graphicData uri="http://schemas.openxmlformats.org/drawingml/2006/table">
            <a:tbl>
              <a:tblPr/>
              <a:tblGrid>
                <a:gridCol w="1326960"/>
                <a:gridCol w="1278000"/>
                <a:gridCol w="1230120"/>
                <a:gridCol w="1033560"/>
                <a:gridCol w="690480"/>
                <a:gridCol w="1208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.0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.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.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.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.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.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.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3.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.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.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.6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.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.5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.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7.3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5.5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.7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.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.66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.191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6%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3.859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1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.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4,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,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,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835280" y="1699920"/>
            <a:ext cx="6408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stribución de extranjeros en la provincia de Huesca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452680"/>
          <a:ext cx="738360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52680"/>
                    <a:ext cx="7383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5280" y="1917720"/>
            <a:ext cx="784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filiación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68360" y="2558880"/>
          <a:ext cx="4038840" cy="3822840"/>
        </p:xfrm>
        <a:graphic>
          <a:graphicData uri="http://schemas.openxmlformats.org/drawingml/2006/table">
            <a:tbl>
              <a:tblPr/>
              <a:tblGrid>
                <a:gridCol w="2225880"/>
                <a:gridCol w="181296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/09/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UM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7.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RUE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7.9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8.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6.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.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.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.8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.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EINO U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3.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ESTO PAI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76.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908.5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835280" y="1699920"/>
            <a:ext cx="6408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istribución nacional de extranjeros por países de proce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2452680"/>
          <a:ext cx="738360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52680"/>
                    <a:ext cx="7383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79480" y="162828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DICADORE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13372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tratos temporales en el Régimen General (31/10/09) . Provincia de Hue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08000" y="2903400"/>
          <a:ext cx="8928000" cy="1317600"/>
        </p:xfrm>
        <a:graphic>
          <a:graphicData uri="http://schemas.openxmlformats.org/drawingml/2006/table">
            <a:tbl>
              <a:tblPr/>
              <a:tblGrid>
                <a:gridCol w="1258920"/>
                <a:gridCol w="776160"/>
                <a:gridCol w="773280"/>
                <a:gridCol w="774720"/>
                <a:gridCol w="772920"/>
                <a:gridCol w="773280"/>
                <a:gridCol w="776160"/>
                <a:gridCol w="771480"/>
                <a:gridCol w="774720"/>
                <a:gridCol w="774720"/>
                <a:gridCol w="701640"/>
              </a:tblGrid>
              <a:tr h="246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/10/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TRATOS TEMPORALES DE TRABAJADORES DEL RÉGIMEN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IEMPO COMPLE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IEMPO PARC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bra o servi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entual 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Interi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rác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orm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bra o servi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entual 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Interi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bilación parc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42560" y="1630080"/>
            <a:ext cx="77770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DICADORE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3295800"/>
          <a:ext cx="4038840" cy="3157560"/>
        </p:xfrm>
        <a:graphic>
          <a:graphicData uri="http://schemas.openxmlformats.org/drawingml/2006/table">
            <a:tbl>
              <a:tblPr/>
              <a:tblGrid>
                <a:gridCol w="2390760"/>
                <a:gridCol w="16480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ÉGIMEN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7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Incremento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incremento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50920" y="2131920"/>
            <a:ext cx="835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úmero de empresas del Régim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14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00720" y="3068640"/>
          <a:ext cx="4038480" cy="3400560"/>
        </p:xfrm>
        <a:graphic>
          <a:graphicData uri="http://schemas.openxmlformats.org/drawingml/2006/table">
            <a:tbl>
              <a:tblPr/>
              <a:tblGrid>
                <a:gridCol w="2390760"/>
                <a:gridCol w="164772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RÉGIMEN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6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.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8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Incremento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Incremento perio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,5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403280" y="2854440"/>
            <a:ext cx="12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637000"/>
            <a:ext cx="3313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 1998 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920" y="3860640"/>
            <a:ext cx="6639120" cy="15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cias por vuestra atención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40384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égime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19640" y="2467080"/>
            <a:ext cx="2000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anteri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58920" y="2997360"/>
          <a:ext cx="6284880" cy="3276360"/>
        </p:xfrm>
        <a:graphic>
          <a:graphicData uri="http://schemas.openxmlformats.org/drawingml/2006/table">
            <a:tbl>
              <a:tblPr/>
              <a:tblGrid>
                <a:gridCol w="1957320"/>
                <a:gridCol w="960480"/>
                <a:gridCol w="641520"/>
                <a:gridCol w="961920"/>
                <a:gridCol w="641160"/>
                <a:gridCol w="11224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.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0.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.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.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2.7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.4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4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4.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.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.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9.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.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.6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2.7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.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.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9.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9.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6.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.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6.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.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 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131840" y="2637000"/>
          <a:ext cx="6608880" cy="3549600"/>
        </p:xfrm>
        <a:graphic>
          <a:graphicData uri="http://schemas.openxmlformats.org/drawingml/2006/table">
            <a:tbl>
              <a:tblPr/>
              <a:tblGrid>
                <a:gridCol w="1424160"/>
                <a:gridCol w="1644480"/>
                <a:gridCol w="673200"/>
                <a:gridCol w="1012680"/>
                <a:gridCol w="674640"/>
                <a:gridCol w="1179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.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5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.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.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8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6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,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 txBox="1"/>
          <p:nvPr/>
        </p:nvSpPr>
        <p:spPr>
          <a:xfrm>
            <a:off x="4140360" y="220500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6040" y="16304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. E. Trabajadore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42920" y="3017880"/>
          <a:ext cx="6932520" cy="3276720"/>
        </p:xfrm>
        <a:graphic>
          <a:graphicData uri="http://schemas.openxmlformats.org/drawingml/2006/table">
            <a:tbl>
              <a:tblPr/>
              <a:tblGrid>
                <a:gridCol w="2158920"/>
                <a:gridCol w="1059120"/>
                <a:gridCol w="709560"/>
                <a:gridCol w="1058760"/>
                <a:gridCol w="709560"/>
                <a:gridCol w="1236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3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.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.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.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.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.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.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.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.4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2.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.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.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4.7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 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 txBox="1"/>
          <p:nvPr/>
        </p:nvSpPr>
        <p:spPr>
          <a:xfrm>
            <a:off x="3419640" y="2538360"/>
            <a:ext cx="2000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anteri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46040" y="163044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. E. Trabajadore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78240" y="1628280"/>
            <a:ext cx="40384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. E. Ag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40360" y="220500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50760" y="2637000"/>
          <a:ext cx="7005960" cy="3549600"/>
        </p:xfrm>
        <a:graphic>
          <a:graphicData uri="http://schemas.openxmlformats.org/drawingml/2006/table">
            <a:tbl>
              <a:tblPr/>
              <a:tblGrid>
                <a:gridCol w="2073600"/>
                <a:gridCol w="1191960"/>
                <a:gridCol w="681120"/>
                <a:gridCol w="1189080"/>
                <a:gridCol w="681120"/>
                <a:gridCol w="1189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8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,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5,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7,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478240" y="1628280"/>
            <a:ext cx="40384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. E. Ag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19640" y="2538360"/>
            <a:ext cx="2000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anteri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2997360"/>
          <a:ext cx="7005600" cy="3276360"/>
        </p:xfrm>
        <a:graphic>
          <a:graphicData uri="http://schemas.openxmlformats.org/drawingml/2006/table">
            <a:tbl>
              <a:tblPr/>
              <a:tblGrid>
                <a:gridCol w="2073240"/>
                <a:gridCol w="1192320"/>
                <a:gridCol w="680760"/>
                <a:gridCol w="1189080"/>
                <a:gridCol w="681120"/>
                <a:gridCol w="1189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.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7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2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.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.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.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.9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4.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 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5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35280" y="1628640"/>
            <a:ext cx="5046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. E. Empleadas de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140360" y="2205000"/>
            <a:ext cx="609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42920" y="2646360"/>
          <a:ext cx="6769080" cy="3549600"/>
        </p:xfrm>
        <a:graphic>
          <a:graphicData uri="http://schemas.openxmlformats.org/drawingml/2006/table">
            <a:tbl>
              <a:tblPr/>
              <a:tblGrid>
                <a:gridCol w="1441440"/>
                <a:gridCol w="1079640"/>
                <a:gridCol w="1312920"/>
                <a:gridCol w="1035000"/>
                <a:gridCol w="690480"/>
                <a:gridCol w="120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N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FEBR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EPTIEM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7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evolu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,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,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35280" y="1628640"/>
            <a:ext cx="5046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. E. Empleadas de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19640" y="2538360"/>
            <a:ext cx="2000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ños anteri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50760" y="3068640"/>
          <a:ext cx="6861240" cy="3276720"/>
        </p:xfrm>
        <a:graphic>
          <a:graphicData uri="http://schemas.openxmlformats.org/drawingml/2006/table">
            <a:tbl>
              <a:tblPr/>
              <a:tblGrid>
                <a:gridCol w="1871640"/>
                <a:gridCol w="1314720"/>
                <a:gridCol w="699840"/>
                <a:gridCol w="1049400"/>
                <a:gridCol w="700200"/>
                <a:gridCol w="1225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HOM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MUJ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Dic.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%  evolución peri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00:43Z</dcterms:created>
  <dc:creator>Ramón Buil</dc:creator>
  <dc:description/>
  <dc:language>en-US</dc:language>
  <cp:lastModifiedBy>temeal</cp:lastModifiedBy>
  <dcterms:modified xsi:type="dcterms:W3CDTF">2009-11-12T10:28:07Z</dcterms:modified>
  <cp:revision>16</cp:revision>
  <dc:subject/>
  <dc:title>Diapositiva 1</dc:title>
</cp:coreProperties>
</file>